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40B8-7A20-4C27-8A39-F2141D94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BF9-A6A6-415D-AD12-1B98CB288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5D57B-FF04-4168-9985-DE8525745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6BD6-94B1-4C6B-9DF9-573AFBB8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D9F36-6069-4D87-A77E-C5DFD77F8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9FB2-C882-494D-8490-42A15B458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ABC2F-263D-4EF4-8757-271669C64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96E4-8D3D-4B2F-A64F-1A3621BDC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2748A-D393-4A84-81F5-2CC264BD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2842-EA3E-47E2-AEEB-3A9E2D8E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6384-B15D-4292-B345-6DF3B60DD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424D-6644-4E6E-A386-B2EE499F2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E9A90-86B9-4DEF-8419-BDD981A8D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4.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Fundamental Theorem of Calcul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 FUNCTION DEFINED BY A DEFINITE INTEG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71360" y="2214720"/>
            <a:ext cx="6343920" cy="58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irst part of the Fundamental Theorem of Calculus deals with functions defined by a definite integra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) be a continuous function defined on the interval [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].  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varies betwee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, we can define the functio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b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function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sometimes called an </a:t>
            </a:r>
            <a:r>
              <a:rPr b="1" lang="en-US" sz="3000" spc="-1" strike="noStrike" u="sng">
                <a:solidFill>
                  <a:srgbClr val="0000ff"/>
                </a:solidFill>
                <a:uFillTx/>
                <a:latin typeface="Times New Roman"/>
              </a:rPr>
              <a:t>accumulation func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since gives the area “accumulated so far.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7"/>
              <p:cNvSpPr txBox="1"/>
              <p:nvPr/>
            </p:nvSpPr>
            <p:spPr>
              <a:xfrm>
                <a:off x="2209680" y="5410080"/>
                <a:ext cx="3886200" cy="117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FUNDAMENTAL THEOREM OF CALCULUS, PART 1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(FTC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3"/>
          <p:cNvSpPr/>
          <p:nvPr/>
        </p:nvSpPr>
        <p:spPr>
          <a:xfrm>
            <a:off x="304920" y="3048120"/>
            <a:ext cx="6286320" cy="37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tinuous 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then 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tinuous 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differentiable on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762120" y="3886200"/>
                <a:ext cx="54100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7"/>
          <p:cNvSpPr/>
          <p:nvPr/>
        </p:nvSpPr>
        <p:spPr>
          <a:xfrm>
            <a:off x="628560" y="2236680"/>
            <a:ext cx="5715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tinuous 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then the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fined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tinuous 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and differentiable on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 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TC1 IN LEIBNIZ N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8"/>
              <p:cNvSpPr txBox="1"/>
              <p:nvPr/>
            </p:nvSpPr>
            <p:spPr>
              <a:xfrm>
                <a:off x="609480" y="3556080"/>
                <a:ext cx="5791320" cy="12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≤</m:t>
                        </m:r>
                        <m:r>
                          <m:t xml:space="preserve">x</m:t>
                        </m:r>
                        <m:r>
                          <m:t xml:space="preserve">≤</m:t>
                        </m:r>
                        <m:r>
                          <m:t xml:space="preserve">b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1295280" y="6248520"/>
                <a:ext cx="4343400" cy="14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Ink 6"/>
          <p:cNvSpPr/>
          <p:nvPr/>
        </p:nvSpPr>
        <p:spPr>
          <a:xfrm>
            <a:off x="714240" y="6167520"/>
            <a:ext cx="5346720" cy="1608120"/>
          </a:xfrm>
          <a:custGeom>
            <a:avLst/>
            <a:gdLst/>
            <a:ahLst/>
            <a:rect l="l" t="t" r="r" b="b"/>
            <a:pathLst>
              <a:path w="14851" h="4466">
                <a:moveTo>
                  <a:pt x="2977" y="17529"/>
                </a:moveTo>
                <a:cubicBezTo>
                  <a:pt x="3756" y="17529"/>
                  <a:pt x="4472" y="17451"/>
                  <a:pt x="5226" y="17330"/>
                </a:cubicBezTo>
                <a:cubicBezTo>
                  <a:pt x="5383" y="17305"/>
                  <a:pt x="5559" y="17298"/>
                  <a:pt x="5722" y="17264"/>
                </a:cubicBezTo>
                <a:cubicBezTo>
                  <a:pt x="5892" y="17228"/>
                  <a:pt x="6048" y="17187"/>
                  <a:pt x="6218" y="17165"/>
                </a:cubicBezTo>
                <a:cubicBezTo>
                  <a:pt x="6437" y="17137"/>
                  <a:pt x="6652" y="17124"/>
                  <a:pt x="6879" y="17132"/>
                </a:cubicBezTo>
                <a:cubicBezTo>
                  <a:pt x="7442" y="17152"/>
                  <a:pt x="8000" y="17194"/>
                  <a:pt x="8566" y="17198"/>
                </a:cubicBezTo>
                <a:cubicBezTo>
                  <a:pt x="9752" y="17207"/>
                  <a:pt x="10974" y="17115"/>
                  <a:pt x="12138" y="17297"/>
                </a:cubicBezTo>
                <a:cubicBezTo>
                  <a:pt x="12626" y="17373"/>
                  <a:pt x="13103" y="17439"/>
                  <a:pt x="13593" y="17463"/>
                </a:cubicBezTo>
                <a:cubicBezTo>
                  <a:pt x="13861" y="17476"/>
                  <a:pt x="16512" y="17304"/>
                  <a:pt x="16702" y="17562"/>
                </a:cubicBezTo>
                <a:cubicBezTo>
                  <a:pt x="16773" y="17659"/>
                  <a:pt x="16740" y="17817"/>
                  <a:pt x="16768" y="17926"/>
                </a:cubicBezTo>
                <a:cubicBezTo>
                  <a:pt x="16803" y="18064"/>
                  <a:pt x="16823" y="18145"/>
                  <a:pt x="16834" y="18289"/>
                </a:cubicBezTo>
                <a:cubicBezTo>
                  <a:pt x="16875" y="18827"/>
                  <a:pt x="16954" y="19696"/>
                  <a:pt x="16801" y="20208"/>
                </a:cubicBezTo>
                <a:cubicBezTo>
                  <a:pt x="16777" y="20287"/>
                  <a:pt x="16763" y="20306"/>
                  <a:pt x="16735" y="20373"/>
                </a:cubicBezTo>
                <a:cubicBezTo>
                  <a:pt x="16703" y="20450"/>
                  <a:pt x="16652" y="20563"/>
                  <a:pt x="16603" y="20638"/>
                </a:cubicBezTo>
                <a:cubicBezTo>
                  <a:pt x="16566" y="20694"/>
                  <a:pt x="16568" y="20744"/>
                  <a:pt x="16536" y="20770"/>
                </a:cubicBezTo>
                <a:cubicBezTo>
                  <a:pt x="16515" y="20788"/>
                  <a:pt x="16478" y="20819"/>
                  <a:pt x="16437" y="20836"/>
                </a:cubicBezTo>
                <a:cubicBezTo>
                  <a:pt x="16350" y="20871"/>
                  <a:pt x="16267" y="20842"/>
                  <a:pt x="16173" y="20869"/>
                </a:cubicBezTo>
                <a:cubicBezTo>
                  <a:pt x="15982" y="20923"/>
                  <a:pt x="15772" y="20960"/>
                  <a:pt x="15577" y="21001"/>
                </a:cubicBezTo>
                <a:cubicBezTo>
                  <a:pt x="15292" y="21061"/>
                  <a:pt x="15002" y="21053"/>
                  <a:pt x="14717" y="21101"/>
                </a:cubicBezTo>
                <a:cubicBezTo>
                  <a:pt x="14162" y="21195"/>
                  <a:pt x="13612" y="21333"/>
                  <a:pt x="13064" y="21431"/>
                </a:cubicBezTo>
                <a:cubicBezTo>
                  <a:pt x="12748" y="21487"/>
                  <a:pt x="12424" y="21531"/>
                  <a:pt x="12105" y="21564"/>
                </a:cubicBezTo>
                <a:cubicBezTo>
                  <a:pt x="11786" y="21598"/>
                  <a:pt x="11469" y="21597"/>
                  <a:pt x="11146" y="21597"/>
                </a:cubicBezTo>
                <a:cubicBezTo>
                  <a:pt x="10376" y="21597"/>
                  <a:pt x="9625" y="21616"/>
                  <a:pt x="8864" y="21497"/>
                </a:cubicBezTo>
                <a:cubicBezTo>
                  <a:pt x="8488" y="21438"/>
                  <a:pt x="8115" y="21361"/>
                  <a:pt x="7739" y="21299"/>
                </a:cubicBezTo>
                <a:cubicBezTo>
                  <a:pt x="7234" y="21216"/>
                  <a:pt x="6725" y="21093"/>
                  <a:pt x="6218" y="21034"/>
                </a:cubicBezTo>
                <a:cubicBezTo>
                  <a:pt x="4855" y="20874"/>
                  <a:pt x="3357" y="21034"/>
                  <a:pt x="1984" y="21034"/>
                </a:cubicBezTo>
                <a:cubicBezTo>
                  <a:pt x="2024" y="20856"/>
                  <a:pt x="2038" y="20721"/>
                  <a:pt x="2084" y="20538"/>
                </a:cubicBezTo>
                <a:cubicBezTo>
                  <a:pt x="2115" y="20415"/>
                  <a:pt x="2149" y="20295"/>
                  <a:pt x="2183" y="20174"/>
                </a:cubicBezTo>
                <a:cubicBezTo>
                  <a:pt x="2228" y="20015"/>
                  <a:pt x="2245" y="19836"/>
                  <a:pt x="2282" y="19678"/>
                </a:cubicBezTo>
                <a:cubicBezTo>
                  <a:pt x="2333" y="19459"/>
                  <a:pt x="2353" y="19230"/>
                  <a:pt x="2414" y="19017"/>
                </a:cubicBezTo>
                <a:cubicBezTo>
                  <a:pt x="2491" y="18750"/>
                  <a:pt x="2620" y="18480"/>
                  <a:pt x="2712" y="18223"/>
                </a:cubicBezTo>
                <a:cubicBezTo>
                  <a:pt x="2747" y="18125"/>
                  <a:pt x="2784" y="18057"/>
                  <a:pt x="2811" y="17959"/>
                </a:cubicBezTo>
                <a:cubicBezTo>
                  <a:pt x="2835" y="17873"/>
                  <a:pt x="2857" y="17809"/>
                  <a:pt x="2877" y="17727"/>
                </a:cubicBezTo>
                <a:cubicBezTo>
                  <a:pt x="2884" y="17696"/>
                  <a:pt x="2870" y="17659"/>
                  <a:pt x="2877" y="17628"/>
                </a:cubicBezTo>
                <a:cubicBezTo>
                  <a:pt x="3192" y="17636"/>
                  <a:pt x="3545" y="17674"/>
                  <a:pt x="3803" y="17727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71100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UNDAMENTAL THEOREM OF CALCULUS, PART 2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(FTC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285840" y="2844720"/>
            <a:ext cx="61722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tinuous 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ny antiderivativ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at is, a function such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609480" y="3733920"/>
                <a:ext cx="54104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57" name="Ink 5"/>
          <p:cNvSpPr/>
          <p:nvPr/>
        </p:nvSpPr>
        <p:spPr>
          <a:xfrm>
            <a:off x="3203640" y="4227480"/>
            <a:ext cx="392040" cy="690480"/>
          </a:xfrm>
          <a:custGeom>
            <a:avLst/>
            <a:gdLst/>
            <a:ahLst/>
            <a:rect l="l" t="t" r="r" b="b"/>
            <a:pathLst>
              <a:path w="1092" h="1919">
                <a:moveTo>
                  <a:pt x="9922" y="11840"/>
                </a:moveTo>
                <a:cubicBezTo>
                  <a:pt x="9922" y="11807"/>
                  <a:pt x="9922" y="11774"/>
                  <a:pt x="9922" y="11741"/>
                </a:cubicBezTo>
                <a:cubicBezTo>
                  <a:pt x="9846" y="11741"/>
                  <a:pt x="9782" y="11727"/>
                  <a:pt x="9723" y="11774"/>
                </a:cubicBezTo>
                <a:cubicBezTo>
                  <a:pt x="9689" y="11801"/>
                  <a:pt x="9669" y="11798"/>
                  <a:pt x="9657" y="11840"/>
                </a:cubicBezTo>
                <a:cubicBezTo>
                  <a:pt x="9644" y="11887"/>
                  <a:pt x="9649" y="11931"/>
                  <a:pt x="9624" y="11972"/>
                </a:cubicBezTo>
                <a:cubicBezTo>
                  <a:pt x="9614" y="11989"/>
                  <a:pt x="9575" y="12030"/>
                  <a:pt x="9558" y="12072"/>
                </a:cubicBezTo>
                <a:cubicBezTo>
                  <a:pt x="9532" y="12136"/>
                  <a:pt x="9528" y="12199"/>
                  <a:pt x="9525" y="12270"/>
                </a:cubicBezTo>
                <a:cubicBezTo>
                  <a:pt x="9521" y="12351"/>
                  <a:pt x="9487" y="12613"/>
                  <a:pt x="9558" y="12667"/>
                </a:cubicBezTo>
                <a:cubicBezTo>
                  <a:pt x="9611" y="12708"/>
                  <a:pt x="9630" y="12750"/>
                  <a:pt x="9690" y="12766"/>
                </a:cubicBezTo>
                <a:cubicBezTo>
                  <a:pt x="9771" y="12788"/>
                  <a:pt x="9888" y="12754"/>
                  <a:pt x="9922" y="12733"/>
                </a:cubicBezTo>
                <a:cubicBezTo>
                  <a:pt x="9943" y="12720"/>
                  <a:pt x="9980" y="12676"/>
                  <a:pt x="9988" y="12634"/>
                </a:cubicBezTo>
                <a:cubicBezTo>
                  <a:pt x="10020" y="12472"/>
                  <a:pt x="9977" y="12214"/>
                  <a:pt x="9955" y="12105"/>
                </a:cubicBezTo>
                <a:cubicBezTo>
                  <a:pt x="9946" y="12062"/>
                  <a:pt x="9931" y="12048"/>
                  <a:pt x="9922" y="12005"/>
                </a:cubicBezTo>
                <a:cubicBezTo>
                  <a:pt x="9916" y="11973"/>
                  <a:pt x="9945" y="11995"/>
                  <a:pt x="9922" y="11972"/>
                </a:cubicBezTo>
                <a:cubicBezTo>
                  <a:pt x="9891" y="12035"/>
                  <a:pt x="9893" y="12059"/>
                  <a:pt x="9889" y="12138"/>
                </a:cubicBezTo>
                <a:cubicBezTo>
                  <a:pt x="9879" y="12353"/>
                  <a:pt x="10018" y="13598"/>
                  <a:pt x="9823" y="13659"/>
                </a:cubicBezTo>
                <a:cubicBezTo>
                  <a:pt x="9710" y="13694"/>
                  <a:pt x="9562" y="13643"/>
                  <a:pt x="9459" y="13626"/>
                </a:cubicBezTo>
                <a:cubicBezTo>
                  <a:pt x="9371" y="13611"/>
                  <a:pt x="9214" y="13564"/>
                  <a:pt x="9128" y="13527"/>
                </a:cubicBezTo>
                <a:cubicBezTo>
                  <a:pt x="9068" y="13501"/>
                  <a:pt x="9078" y="13474"/>
                  <a:pt x="9029" y="13461"/>
                </a:cubicBezTo>
                <a:cubicBezTo>
                  <a:pt x="8955" y="13441"/>
                  <a:pt x="8940" y="13428"/>
                  <a:pt x="8897" y="13395"/>
                </a:cubicBezTo>
                <a:cubicBezTo>
                  <a:pt x="9089" y="13395"/>
                  <a:pt x="9270" y="13362"/>
                  <a:pt x="9459" y="1332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Ink 6"/>
          <p:cNvSpPr/>
          <p:nvPr/>
        </p:nvSpPr>
        <p:spPr>
          <a:xfrm>
            <a:off x="4667400" y="4227480"/>
            <a:ext cx="523800" cy="701640"/>
          </a:xfrm>
          <a:custGeom>
            <a:avLst/>
            <a:gdLst/>
            <a:ahLst/>
            <a:rect l="l" t="t" r="r" b="b"/>
            <a:pathLst>
              <a:path w="1456" h="1952">
                <a:moveTo>
                  <a:pt x="14221" y="11807"/>
                </a:moveTo>
                <a:cubicBezTo>
                  <a:pt x="14190" y="11776"/>
                  <a:pt x="14207" y="11756"/>
                  <a:pt x="14155" y="11741"/>
                </a:cubicBezTo>
                <a:cubicBezTo>
                  <a:pt x="14061" y="11714"/>
                  <a:pt x="14076" y="11798"/>
                  <a:pt x="14023" y="11840"/>
                </a:cubicBezTo>
                <a:cubicBezTo>
                  <a:pt x="13980" y="11875"/>
                  <a:pt x="13958" y="11881"/>
                  <a:pt x="13924" y="11939"/>
                </a:cubicBezTo>
                <a:cubicBezTo>
                  <a:pt x="13901" y="11978"/>
                  <a:pt x="13868" y="12022"/>
                  <a:pt x="13858" y="12039"/>
                </a:cubicBezTo>
                <a:cubicBezTo>
                  <a:pt x="13827" y="12090"/>
                  <a:pt x="13802" y="12124"/>
                  <a:pt x="13758" y="12171"/>
                </a:cubicBezTo>
                <a:cubicBezTo>
                  <a:pt x="13737" y="12194"/>
                  <a:pt x="13703" y="12223"/>
                  <a:pt x="13692" y="12270"/>
                </a:cubicBezTo>
                <a:cubicBezTo>
                  <a:pt x="13674" y="12347"/>
                  <a:pt x="13711" y="12437"/>
                  <a:pt x="13725" y="12468"/>
                </a:cubicBezTo>
                <a:cubicBezTo>
                  <a:pt x="13746" y="12517"/>
                  <a:pt x="13752" y="12553"/>
                  <a:pt x="13824" y="12535"/>
                </a:cubicBezTo>
                <a:cubicBezTo>
                  <a:pt x="13847" y="12529"/>
                  <a:pt x="13897" y="12519"/>
                  <a:pt x="13924" y="12502"/>
                </a:cubicBezTo>
                <a:cubicBezTo>
                  <a:pt x="13976" y="12468"/>
                  <a:pt x="13994" y="12404"/>
                  <a:pt x="14023" y="12369"/>
                </a:cubicBezTo>
                <a:cubicBezTo>
                  <a:pt x="14035" y="12355"/>
                  <a:pt x="14103" y="12255"/>
                  <a:pt x="14122" y="12237"/>
                </a:cubicBezTo>
                <a:cubicBezTo>
                  <a:pt x="14176" y="12187"/>
                  <a:pt x="14198" y="12123"/>
                  <a:pt x="14254" y="12072"/>
                </a:cubicBezTo>
                <a:cubicBezTo>
                  <a:pt x="14306" y="12025"/>
                  <a:pt x="14334" y="12010"/>
                  <a:pt x="14354" y="11939"/>
                </a:cubicBezTo>
                <a:cubicBezTo>
                  <a:pt x="14370" y="11883"/>
                  <a:pt x="14412" y="11881"/>
                  <a:pt x="14420" y="11840"/>
                </a:cubicBezTo>
                <a:cubicBezTo>
                  <a:pt x="14409" y="11840"/>
                  <a:pt x="14398" y="11840"/>
                  <a:pt x="14387" y="11840"/>
                </a:cubicBezTo>
                <a:cubicBezTo>
                  <a:pt x="14362" y="11951"/>
                  <a:pt x="14326" y="12007"/>
                  <a:pt x="14321" y="12138"/>
                </a:cubicBezTo>
                <a:cubicBezTo>
                  <a:pt x="14317" y="12263"/>
                  <a:pt x="14288" y="12371"/>
                  <a:pt x="14288" y="12502"/>
                </a:cubicBezTo>
                <a:cubicBezTo>
                  <a:pt x="14288" y="12700"/>
                  <a:pt x="14393" y="13323"/>
                  <a:pt x="14254" y="13461"/>
                </a:cubicBezTo>
                <a:cubicBezTo>
                  <a:pt x="14254" y="13505"/>
                  <a:pt x="14243" y="13516"/>
                  <a:pt x="14188" y="13494"/>
                </a:cubicBezTo>
                <a:cubicBezTo>
                  <a:pt x="14164" y="13576"/>
                  <a:pt x="14124" y="13614"/>
                  <a:pt x="14056" y="13659"/>
                </a:cubicBezTo>
                <a:cubicBezTo>
                  <a:pt x="14001" y="13695"/>
                  <a:pt x="13991" y="13688"/>
                  <a:pt x="13924" y="13692"/>
                </a:cubicBezTo>
                <a:cubicBezTo>
                  <a:pt x="13730" y="13703"/>
                  <a:pt x="13543" y="13689"/>
                  <a:pt x="13361" y="13659"/>
                </a:cubicBezTo>
                <a:cubicBezTo>
                  <a:pt x="13293" y="13648"/>
                  <a:pt x="13264" y="13630"/>
                  <a:pt x="13196" y="13626"/>
                </a:cubicBezTo>
                <a:cubicBezTo>
                  <a:pt x="13149" y="13624"/>
                  <a:pt x="13099" y="13618"/>
                  <a:pt x="13064" y="13593"/>
                </a:cubicBezTo>
                <a:cubicBezTo>
                  <a:pt x="13024" y="13564"/>
                  <a:pt x="13004" y="13546"/>
                  <a:pt x="12965" y="135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Ink 7"/>
          <p:cNvSpPr/>
          <p:nvPr/>
        </p:nvSpPr>
        <p:spPr>
          <a:xfrm>
            <a:off x="4762440" y="5489640"/>
            <a:ext cx="333360" cy="595080"/>
          </a:xfrm>
          <a:custGeom>
            <a:avLst/>
            <a:gdLst/>
            <a:ahLst/>
            <a:rect l="l" t="t" r="r" b="b"/>
            <a:pathLst>
              <a:path w="927" h="1654">
                <a:moveTo>
                  <a:pt x="14155" y="15280"/>
                </a:moveTo>
                <a:cubicBezTo>
                  <a:pt x="14123" y="15261"/>
                  <a:pt x="14125" y="15251"/>
                  <a:pt x="14056" y="15247"/>
                </a:cubicBezTo>
                <a:cubicBezTo>
                  <a:pt x="13876" y="15236"/>
                  <a:pt x="13696" y="15252"/>
                  <a:pt x="13527" y="15280"/>
                </a:cubicBezTo>
                <a:cubicBezTo>
                  <a:pt x="13462" y="15291"/>
                  <a:pt x="13473" y="15289"/>
                  <a:pt x="13428" y="15313"/>
                </a:cubicBezTo>
                <a:cubicBezTo>
                  <a:pt x="13394" y="15331"/>
                  <a:pt x="13373" y="15371"/>
                  <a:pt x="13328" y="15412"/>
                </a:cubicBezTo>
                <a:cubicBezTo>
                  <a:pt x="13292" y="15445"/>
                  <a:pt x="13241" y="15501"/>
                  <a:pt x="13229" y="15544"/>
                </a:cubicBezTo>
                <a:cubicBezTo>
                  <a:pt x="13209" y="15618"/>
                  <a:pt x="13238" y="15680"/>
                  <a:pt x="13262" y="15710"/>
                </a:cubicBezTo>
                <a:cubicBezTo>
                  <a:pt x="13293" y="15749"/>
                  <a:pt x="13338" y="15762"/>
                  <a:pt x="13395" y="15809"/>
                </a:cubicBezTo>
                <a:cubicBezTo>
                  <a:pt x="13497" y="15893"/>
                  <a:pt x="13490" y="15864"/>
                  <a:pt x="13626" y="15875"/>
                </a:cubicBezTo>
                <a:cubicBezTo>
                  <a:pt x="13718" y="15882"/>
                  <a:pt x="13812" y="15878"/>
                  <a:pt x="13858" y="15842"/>
                </a:cubicBezTo>
                <a:cubicBezTo>
                  <a:pt x="13895" y="15812"/>
                  <a:pt x="13915" y="15753"/>
                  <a:pt x="13924" y="15710"/>
                </a:cubicBezTo>
                <a:cubicBezTo>
                  <a:pt x="13945" y="15616"/>
                  <a:pt x="13942" y="15494"/>
                  <a:pt x="13957" y="15412"/>
                </a:cubicBezTo>
                <a:cubicBezTo>
                  <a:pt x="13969" y="15347"/>
                  <a:pt x="13971" y="15345"/>
                  <a:pt x="13990" y="15313"/>
                </a:cubicBezTo>
                <a:cubicBezTo>
                  <a:pt x="14020" y="15263"/>
                  <a:pt x="13990" y="15426"/>
                  <a:pt x="13990" y="15478"/>
                </a:cubicBezTo>
                <a:cubicBezTo>
                  <a:pt x="13990" y="15596"/>
                  <a:pt x="13971" y="15701"/>
                  <a:pt x="13957" y="15809"/>
                </a:cubicBezTo>
                <a:cubicBezTo>
                  <a:pt x="13936" y="15976"/>
                  <a:pt x="13954" y="16153"/>
                  <a:pt x="13924" y="16305"/>
                </a:cubicBezTo>
                <a:cubicBezTo>
                  <a:pt x="13902" y="16415"/>
                  <a:pt x="13962" y="16547"/>
                  <a:pt x="13891" y="16636"/>
                </a:cubicBezTo>
                <a:cubicBezTo>
                  <a:pt x="13842" y="16697"/>
                  <a:pt x="13807" y="16719"/>
                  <a:pt x="13758" y="16768"/>
                </a:cubicBezTo>
                <a:cubicBezTo>
                  <a:pt x="13719" y="16806"/>
                  <a:pt x="13717" y="16772"/>
                  <a:pt x="13659" y="16801"/>
                </a:cubicBezTo>
                <a:cubicBezTo>
                  <a:pt x="13650" y="16805"/>
                  <a:pt x="13589" y="16819"/>
                  <a:pt x="13560" y="16834"/>
                </a:cubicBezTo>
                <a:cubicBezTo>
                  <a:pt x="13485" y="16872"/>
                  <a:pt x="13553" y="16885"/>
                  <a:pt x="13461" y="16900"/>
                </a:cubicBezTo>
                <a:cubicBezTo>
                  <a:pt x="13450" y="16900"/>
                  <a:pt x="13439" y="16900"/>
                  <a:pt x="13428" y="1690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Ink 8"/>
          <p:cNvSpPr/>
          <p:nvPr/>
        </p:nvSpPr>
        <p:spPr>
          <a:xfrm>
            <a:off x="1380960" y="5000760"/>
            <a:ext cx="547920" cy="608040"/>
          </a:xfrm>
          <a:custGeom>
            <a:avLst/>
            <a:gdLst/>
            <a:ahLst/>
            <a:rect l="l" t="t" r="r" b="b"/>
            <a:pathLst>
              <a:path w="1523" h="1687">
                <a:moveTo>
                  <a:pt x="5358" y="14254"/>
                </a:moveTo>
                <a:cubicBezTo>
                  <a:pt x="5194" y="14361"/>
                  <a:pt x="5022" y="14465"/>
                  <a:pt x="4829" y="14519"/>
                </a:cubicBezTo>
                <a:cubicBezTo>
                  <a:pt x="4779" y="14533"/>
                  <a:pt x="4740" y="14504"/>
                  <a:pt x="4696" y="14486"/>
                </a:cubicBezTo>
              </a:path>
              <a:path w="1523" h="1687">
                <a:moveTo>
                  <a:pt x="4465" y="13924"/>
                </a:moveTo>
                <a:cubicBezTo>
                  <a:pt x="4448" y="13874"/>
                  <a:pt x="4425" y="13891"/>
                  <a:pt x="4366" y="13891"/>
                </a:cubicBezTo>
                <a:cubicBezTo>
                  <a:pt x="4300" y="13891"/>
                  <a:pt x="4233" y="13891"/>
                  <a:pt x="4167" y="13891"/>
                </a:cubicBezTo>
                <a:cubicBezTo>
                  <a:pt x="4167" y="13953"/>
                  <a:pt x="4144" y="13975"/>
                  <a:pt x="4134" y="14023"/>
                </a:cubicBezTo>
                <a:cubicBezTo>
                  <a:pt x="4111" y="14131"/>
                  <a:pt x="4144" y="14256"/>
                  <a:pt x="4167" y="14354"/>
                </a:cubicBezTo>
                <a:cubicBezTo>
                  <a:pt x="4182" y="14418"/>
                  <a:pt x="4240" y="14429"/>
                  <a:pt x="4266" y="14486"/>
                </a:cubicBezTo>
                <a:cubicBezTo>
                  <a:pt x="4293" y="14547"/>
                  <a:pt x="4291" y="14552"/>
                  <a:pt x="4366" y="14552"/>
                </a:cubicBezTo>
                <a:cubicBezTo>
                  <a:pt x="4450" y="14552"/>
                  <a:pt x="4476" y="14618"/>
                  <a:pt x="4531" y="14651"/>
                </a:cubicBezTo>
                <a:cubicBezTo>
                  <a:pt x="4558" y="14667"/>
                  <a:pt x="4655" y="14630"/>
                  <a:pt x="4663" y="14618"/>
                </a:cubicBezTo>
                <a:cubicBezTo>
                  <a:pt x="4682" y="14590"/>
                  <a:pt x="4727" y="14490"/>
                  <a:pt x="4729" y="14486"/>
                </a:cubicBezTo>
                <a:cubicBezTo>
                  <a:pt x="4745" y="14448"/>
                  <a:pt x="4758" y="14361"/>
                  <a:pt x="4763" y="14321"/>
                </a:cubicBezTo>
                <a:cubicBezTo>
                  <a:pt x="4776" y="14209"/>
                  <a:pt x="4760" y="14084"/>
                  <a:pt x="4729" y="14023"/>
                </a:cubicBezTo>
                <a:cubicBezTo>
                  <a:pt x="4703" y="13973"/>
                  <a:pt x="4672" y="13990"/>
                  <a:pt x="4597" y="13990"/>
                </a:cubicBezTo>
                <a:cubicBezTo>
                  <a:pt x="4567" y="13990"/>
                  <a:pt x="4288" y="13990"/>
                  <a:pt x="4366" y="13990"/>
                </a:cubicBezTo>
                <a:cubicBezTo>
                  <a:pt x="4399" y="13990"/>
                  <a:pt x="4410" y="13990"/>
                  <a:pt x="4432" y="13990"/>
                </a:cubicBezTo>
              </a:path>
              <a:path w="1523" h="1687">
                <a:moveTo>
                  <a:pt x="4829" y="13924"/>
                </a:moveTo>
                <a:cubicBezTo>
                  <a:pt x="4829" y="13965"/>
                  <a:pt x="4795" y="13979"/>
                  <a:pt x="4763" y="13990"/>
                </a:cubicBezTo>
              </a:path>
              <a:path w="1523" h="1687">
                <a:moveTo>
                  <a:pt x="4729" y="14023"/>
                </a:moveTo>
                <a:cubicBezTo>
                  <a:pt x="4707" y="14110"/>
                  <a:pt x="4703" y="14058"/>
                  <a:pt x="4663" y="14155"/>
                </a:cubicBezTo>
                <a:cubicBezTo>
                  <a:pt x="4637" y="14219"/>
                  <a:pt x="4650" y="14291"/>
                  <a:pt x="4630" y="14354"/>
                </a:cubicBezTo>
                <a:cubicBezTo>
                  <a:pt x="4603" y="14439"/>
                  <a:pt x="4615" y="14501"/>
                  <a:pt x="4597" y="14585"/>
                </a:cubicBezTo>
                <a:cubicBezTo>
                  <a:pt x="4583" y="14653"/>
                  <a:pt x="4582" y="14751"/>
                  <a:pt x="4564" y="14817"/>
                </a:cubicBezTo>
                <a:cubicBezTo>
                  <a:pt x="4558" y="14839"/>
                  <a:pt x="4531" y="14915"/>
                  <a:pt x="4531" y="14982"/>
                </a:cubicBezTo>
                <a:cubicBezTo>
                  <a:pt x="4531" y="15045"/>
                  <a:pt x="4506" y="15087"/>
                  <a:pt x="4498" y="15147"/>
                </a:cubicBezTo>
                <a:cubicBezTo>
                  <a:pt x="4486" y="15231"/>
                  <a:pt x="4469" y="15285"/>
                  <a:pt x="4465" y="15379"/>
                </a:cubicBezTo>
                <a:cubicBezTo>
                  <a:pt x="4462" y="15458"/>
                  <a:pt x="4446" y="15477"/>
                  <a:pt x="4432" y="15544"/>
                </a:cubicBezTo>
                <a:cubicBezTo>
                  <a:pt x="4432" y="15555"/>
                  <a:pt x="4432" y="15566"/>
                  <a:pt x="4432" y="15577"/>
                </a:cubicBezTo>
                <a:cubicBezTo>
                  <a:pt x="4307" y="15497"/>
                  <a:pt x="4159" y="15393"/>
                  <a:pt x="4002" y="15346"/>
                </a:cubicBezTo>
                <a:cubicBezTo>
                  <a:pt x="3919" y="15321"/>
                  <a:pt x="3875" y="15375"/>
                  <a:pt x="3836" y="15313"/>
                </a:cubicBezTo>
                <a:cubicBezTo>
                  <a:pt x="3836" y="15302"/>
                  <a:pt x="3836" y="15291"/>
                  <a:pt x="3836" y="1528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OTATIONS FOR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− 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3"/>
              <p:cNvSpPr txBox="1"/>
              <p:nvPr/>
            </p:nvSpPr>
            <p:spPr>
              <a:xfrm>
                <a:off x="0" y="2514600"/>
                <a:ext cx="6858000" cy="616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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sSubSup>
                          <m:e>
                            <m:r>
                              <m:t xml:space="preserve">]</m:t>
                            </m:r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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r>
                          <m:t xml:space="preserve"></m:t>
                        </m:r>
                        <m:sSub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b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 </m:t>
                            </m:r>
                            <m:r>
                              <m:t xml:space="preserve">b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Ink 4"/>
          <p:cNvSpPr/>
          <p:nvPr/>
        </p:nvSpPr>
        <p:spPr>
          <a:xfrm>
            <a:off x="5762520" y="2595600"/>
            <a:ext cx="1227240" cy="5857920"/>
          </a:xfrm>
          <a:custGeom>
            <a:avLst/>
            <a:gdLst/>
            <a:ahLst/>
            <a:rect l="l" t="t" r="r" b="b"/>
            <a:pathLst>
              <a:path w="3408" h="16273">
                <a:moveTo>
                  <a:pt x="18686" y="7309"/>
                </a:moveTo>
                <a:cubicBezTo>
                  <a:pt x="18649" y="7288"/>
                  <a:pt x="18640" y="7270"/>
                  <a:pt x="18587" y="7243"/>
                </a:cubicBezTo>
                <a:cubicBezTo>
                  <a:pt x="18531" y="7215"/>
                  <a:pt x="18523" y="7210"/>
                  <a:pt x="18455" y="7210"/>
                </a:cubicBezTo>
                <a:cubicBezTo>
                  <a:pt x="18306" y="7210"/>
                  <a:pt x="18086" y="7287"/>
                  <a:pt x="17959" y="7342"/>
                </a:cubicBezTo>
                <a:cubicBezTo>
                  <a:pt x="17837" y="7395"/>
                  <a:pt x="17734" y="7497"/>
                  <a:pt x="17628" y="7574"/>
                </a:cubicBezTo>
                <a:cubicBezTo>
                  <a:pt x="17563" y="7622"/>
                  <a:pt x="17442" y="7691"/>
                  <a:pt x="17396" y="7739"/>
                </a:cubicBezTo>
                <a:cubicBezTo>
                  <a:pt x="17368" y="7768"/>
                  <a:pt x="17353" y="7845"/>
                  <a:pt x="17330" y="7871"/>
                </a:cubicBezTo>
                <a:cubicBezTo>
                  <a:pt x="17305" y="7899"/>
                  <a:pt x="17286" y="7916"/>
                  <a:pt x="17264" y="7971"/>
                </a:cubicBezTo>
                <a:cubicBezTo>
                  <a:pt x="17243" y="8024"/>
                  <a:pt x="17244" y="8044"/>
                  <a:pt x="17231" y="8103"/>
                </a:cubicBezTo>
                <a:cubicBezTo>
                  <a:pt x="17217" y="8163"/>
                  <a:pt x="17171" y="8246"/>
                  <a:pt x="17165" y="8301"/>
                </a:cubicBezTo>
                <a:cubicBezTo>
                  <a:pt x="17148" y="8449"/>
                  <a:pt x="17142" y="8618"/>
                  <a:pt x="17132" y="8764"/>
                </a:cubicBezTo>
                <a:cubicBezTo>
                  <a:pt x="17116" y="8998"/>
                  <a:pt x="17148" y="9246"/>
                  <a:pt x="17165" y="9459"/>
                </a:cubicBezTo>
                <a:cubicBezTo>
                  <a:pt x="17173" y="9561"/>
                  <a:pt x="17190" y="9656"/>
                  <a:pt x="17198" y="9757"/>
                </a:cubicBezTo>
                <a:cubicBezTo>
                  <a:pt x="17205" y="9852"/>
                  <a:pt x="17215" y="9930"/>
                  <a:pt x="17231" y="10021"/>
                </a:cubicBezTo>
                <a:cubicBezTo>
                  <a:pt x="17246" y="10107"/>
                  <a:pt x="17258" y="10199"/>
                  <a:pt x="17264" y="10286"/>
                </a:cubicBezTo>
                <a:cubicBezTo>
                  <a:pt x="17293" y="10669"/>
                  <a:pt x="17268" y="11069"/>
                  <a:pt x="17297" y="11443"/>
                </a:cubicBezTo>
                <a:cubicBezTo>
                  <a:pt x="17303" y="11525"/>
                  <a:pt x="17280" y="11578"/>
                  <a:pt x="17330" y="11642"/>
                </a:cubicBezTo>
                <a:cubicBezTo>
                  <a:pt x="17349" y="11666"/>
                  <a:pt x="17391" y="11675"/>
                  <a:pt x="17429" y="11708"/>
                </a:cubicBezTo>
                <a:cubicBezTo>
                  <a:pt x="17560" y="11822"/>
                  <a:pt x="17710" y="11955"/>
                  <a:pt x="17859" y="12039"/>
                </a:cubicBezTo>
                <a:cubicBezTo>
                  <a:pt x="17937" y="12083"/>
                  <a:pt x="18008" y="12092"/>
                  <a:pt x="18091" y="12105"/>
                </a:cubicBezTo>
                <a:cubicBezTo>
                  <a:pt x="18165" y="12116"/>
                  <a:pt x="18199" y="12088"/>
                  <a:pt x="18256" y="12072"/>
                </a:cubicBezTo>
                <a:cubicBezTo>
                  <a:pt x="18324" y="12053"/>
                  <a:pt x="18331" y="12063"/>
                  <a:pt x="18389" y="12005"/>
                </a:cubicBezTo>
                <a:cubicBezTo>
                  <a:pt x="18432" y="11962"/>
                  <a:pt x="18513" y="11907"/>
                  <a:pt x="18554" y="11873"/>
                </a:cubicBezTo>
                <a:cubicBezTo>
                  <a:pt x="18626" y="11813"/>
                  <a:pt x="18686" y="11714"/>
                  <a:pt x="18752" y="11642"/>
                </a:cubicBezTo>
                <a:cubicBezTo>
                  <a:pt x="18831" y="11556"/>
                  <a:pt x="18889" y="11485"/>
                  <a:pt x="18951" y="11377"/>
                </a:cubicBezTo>
                <a:cubicBezTo>
                  <a:pt x="19015" y="11266"/>
                  <a:pt x="19068" y="11172"/>
                  <a:pt x="19116" y="11046"/>
                </a:cubicBezTo>
                <a:cubicBezTo>
                  <a:pt x="19177" y="10884"/>
                  <a:pt x="19266" y="10689"/>
                  <a:pt x="19282" y="10517"/>
                </a:cubicBezTo>
                <a:cubicBezTo>
                  <a:pt x="19297" y="10358"/>
                  <a:pt x="19332" y="10210"/>
                  <a:pt x="19348" y="10054"/>
                </a:cubicBezTo>
                <a:cubicBezTo>
                  <a:pt x="19364" y="9898"/>
                  <a:pt x="19400" y="9747"/>
                  <a:pt x="19414" y="9591"/>
                </a:cubicBezTo>
                <a:cubicBezTo>
                  <a:pt x="19435" y="9360"/>
                  <a:pt x="19497" y="8812"/>
                  <a:pt x="19381" y="8599"/>
                </a:cubicBezTo>
                <a:cubicBezTo>
                  <a:pt x="19354" y="8549"/>
                  <a:pt x="19269" y="8493"/>
                  <a:pt x="19248" y="8467"/>
                </a:cubicBezTo>
                <a:cubicBezTo>
                  <a:pt x="19184" y="8390"/>
                  <a:pt x="19140" y="8295"/>
                  <a:pt x="19083" y="8202"/>
                </a:cubicBezTo>
                <a:cubicBezTo>
                  <a:pt x="19062" y="8168"/>
                  <a:pt x="18977" y="8059"/>
                  <a:pt x="18951" y="8037"/>
                </a:cubicBezTo>
                <a:cubicBezTo>
                  <a:pt x="18911" y="8003"/>
                  <a:pt x="18840" y="7917"/>
                  <a:pt x="18818" y="7904"/>
                </a:cubicBezTo>
                <a:cubicBezTo>
                  <a:pt x="18778" y="7880"/>
                  <a:pt x="18744" y="7872"/>
                  <a:pt x="18686" y="7838"/>
                </a:cubicBezTo>
                <a:cubicBezTo>
                  <a:pt x="18606" y="7791"/>
                  <a:pt x="18537" y="7714"/>
                  <a:pt x="18455" y="7673"/>
                </a:cubicBezTo>
                <a:cubicBezTo>
                  <a:pt x="18389" y="7640"/>
                  <a:pt x="18341" y="7650"/>
                  <a:pt x="18289" y="7607"/>
                </a:cubicBezTo>
                <a:cubicBezTo>
                  <a:pt x="18289" y="7596"/>
                  <a:pt x="18289" y="7585"/>
                  <a:pt x="18289" y="7574"/>
                </a:cubicBezTo>
              </a:path>
              <a:path w="3408" h="16273">
                <a:moveTo>
                  <a:pt x="17793" y="13130"/>
                </a:moveTo>
                <a:cubicBezTo>
                  <a:pt x="17735" y="13112"/>
                  <a:pt x="17739" y="13109"/>
                  <a:pt x="17694" y="13097"/>
                </a:cubicBezTo>
                <a:cubicBezTo>
                  <a:pt x="17624" y="13078"/>
                  <a:pt x="17579" y="13069"/>
                  <a:pt x="17496" y="13064"/>
                </a:cubicBezTo>
                <a:cubicBezTo>
                  <a:pt x="17334" y="13055"/>
                  <a:pt x="17149" y="13047"/>
                  <a:pt x="16999" y="13097"/>
                </a:cubicBezTo>
                <a:cubicBezTo>
                  <a:pt x="16904" y="13129"/>
                  <a:pt x="16834" y="13199"/>
                  <a:pt x="16768" y="13262"/>
                </a:cubicBezTo>
                <a:cubicBezTo>
                  <a:pt x="16655" y="13369"/>
                  <a:pt x="16582" y="13471"/>
                  <a:pt x="16503" y="13593"/>
                </a:cubicBezTo>
                <a:cubicBezTo>
                  <a:pt x="16445" y="13682"/>
                  <a:pt x="16415" y="13752"/>
                  <a:pt x="16371" y="13858"/>
                </a:cubicBezTo>
                <a:cubicBezTo>
                  <a:pt x="16343" y="13925"/>
                  <a:pt x="16327" y="13989"/>
                  <a:pt x="16305" y="14056"/>
                </a:cubicBezTo>
                <a:cubicBezTo>
                  <a:pt x="16280" y="14133"/>
                  <a:pt x="16230" y="14217"/>
                  <a:pt x="16206" y="14288"/>
                </a:cubicBezTo>
                <a:cubicBezTo>
                  <a:pt x="16187" y="14344"/>
                  <a:pt x="16147" y="14436"/>
                  <a:pt x="16140" y="14486"/>
                </a:cubicBezTo>
                <a:cubicBezTo>
                  <a:pt x="16127" y="14580"/>
                  <a:pt x="16125" y="14660"/>
                  <a:pt x="16107" y="14751"/>
                </a:cubicBezTo>
                <a:cubicBezTo>
                  <a:pt x="16091" y="14831"/>
                  <a:pt x="16089" y="14896"/>
                  <a:pt x="16073" y="14982"/>
                </a:cubicBezTo>
                <a:cubicBezTo>
                  <a:pt x="16059" y="15057"/>
                  <a:pt x="16054" y="15108"/>
                  <a:pt x="16040" y="15180"/>
                </a:cubicBezTo>
                <a:cubicBezTo>
                  <a:pt x="16027" y="15247"/>
                  <a:pt x="16011" y="15310"/>
                  <a:pt x="16007" y="15379"/>
                </a:cubicBezTo>
                <a:cubicBezTo>
                  <a:pt x="15967" y="16061"/>
                  <a:pt x="15983" y="16870"/>
                  <a:pt x="16040" y="17496"/>
                </a:cubicBezTo>
                <a:cubicBezTo>
                  <a:pt x="16046" y="17567"/>
                  <a:pt x="16055" y="17602"/>
                  <a:pt x="16073" y="17661"/>
                </a:cubicBezTo>
                <a:cubicBezTo>
                  <a:pt x="16089" y="17712"/>
                  <a:pt x="16096" y="17738"/>
                  <a:pt x="16107" y="17760"/>
                </a:cubicBezTo>
                <a:cubicBezTo>
                  <a:pt x="16141" y="17827"/>
                  <a:pt x="16185" y="17907"/>
                  <a:pt x="16239" y="17959"/>
                </a:cubicBezTo>
                <a:cubicBezTo>
                  <a:pt x="16294" y="18012"/>
                  <a:pt x="16289" y="17989"/>
                  <a:pt x="16338" y="18025"/>
                </a:cubicBezTo>
                <a:cubicBezTo>
                  <a:pt x="16361" y="18041"/>
                  <a:pt x="16433" y="18134"/>
                  <a:pt x="16470" y="18157"/>
                </a:cubicBezTo>
                <a:cubicBezTo>
                  <a:pt x="16547" y="18205"/>
                  <a:pt x="16634" y="18222"/>
                  <a:pt x="16702" y="18256"/>
                </a:cubicBezTo>
                <a:cubicBezTo>
                  <a:pt x="16754" y="18282"/>
                  <a:pt x="16808" y="18314"/>
                  <a:pt x="16867" y="18322"/>
                </a:cubicBezTo>
                <a:cubicBezTo>
                  <a:pt x="17024" y="18344"/>
                  <a:pt x="17376" y="18372"/>
                  <a:pt x="17496" y="18289"/>
                </a:cubicBezTo>
                <a:cubicBezTo>
                  <a:pt x="17519" y="18273"/>
                  <a:pt x="17607" y="18207"/>
                  <a:pt x="17628" y="18190"/>
                </a:cubicBezTo>
                <a:cubicBezTo>
                  <a:pt x="17675" y="18152"/>
                  <a:pt x="17764" y="18087"/>
                  <a:pt x="17793" y="18058"/>
                </a:cubicBezTo>
                <a:cubicBezTo>
                  <a:pt x="17872" y="17979"/>
                  <a:pt x="18011" y="17825"/>
                  <a:pt x="18058" y="17727"/>
                </a:cubicBezTo>
                <a:cubicBezTo>
                  <a:pt x="18088" y="17666"/>
                  <a:pt x="18132" y="17565"/>
                  <a:pt x="18157" y="17496"/>
                </a:cubicBezTo>
                <a:cubicBezTo>
                  <a:pt x="18193" y="17397"/>
                  <a:pt x="18214" y="17303"/>
                  <a:pt x="18256" y="17198"/>
                </a:cubicBezTo>
                <a:cubicBezTo>
                  <a:pt x="18289" y="17116"/>
                  <a:pt x="18326" y="17020"/>
                  <a:pt x="18355" y="16933"/>
                </a:cubicBezTo>
                <a:cubicBezTo>
                  <a:pt x="18385" y="16845"/>
                  <a:pt x="18386" y="16762"/>
                  <a:pt x="18389" y="16669"/>
                </a:cubicBezTo>
                <a:cubicBezTo>
                  <a:pt x="18392" y="16553"/>
                  <a:pt x="18447" y="16435"/>
                  <a:pt x="18455" y="16338"/>
                </a:cubicBezTo>
                <a:cubicBezTo>
                  <a:pt x="18464" y="16227"/>
                  <a:pt x="18480" y="16115"/>
                  <a:pt x="18488" y="16007"/>
                </a:cubicBezTo>
                <a:cubicBezTo>
                  <a:pt x="18511" y="15682"/>
                  <a:pt x="18520" y="15298"/>
                  <a:pt x="18455" y="14982"/>
                </a:cubicBezTo>
                <a:cubicBezTo>
                  <a:pt x="18437" y="14892"/>
                  <a:pt x="18435" y="14807"/>
                  <a:pt x="18422" y="14717"/>
                </a:cubicBezTo>
                <a:cubicBezTo>
                  <a:pt x="18417" y="14681"/>
                  <a:pt x="18356" y="14555"/>
                  <a:pt x="18355" y="14552"/>
                </a:cubicBezTo>
                <a:cubicBezTo>
                  <a:pt x="18337" y="14480"/>
                  <a:pt x="18332" y="14424"/>
                  <a:pt x="18289" y="14354"/>
                </a:cubicBezTo>
                <a:cubicBezTo>
                  <a:pt x="18248" y="14287"/>
                  <a:pt x="18200" y="14229"/>
                  <a:pt x="18157" y="14155"/>
                </a:cubicBezTo>
                <a:cubicBezTo>
                  <a:pt x="18113" y="14080"/>
                  <a:pt x="18085" y="13995"/>
                  <a:pt x="18058" y="13924"/>
                </a:cubicBezTo>
                <a:cubicBezTo>
                  <a:pt x="18042" y="13881"/>
                  <a:pt x="18026" y="13848"/>
                  <a:pt x="17992" y="13791"/>
                </a:cubicBezTo>
                <a:cubicBezTo>
                  <a:pt x="17960" y="13739"/>
                  <a:pt x="17928" y="13679"/>
                  <a:pt x="17892" y="13626"/>
                </a:cubicBezTo>
                <a:cubicBezTo>
                  <a:pt x="17874" y="13599"/>
                  <a:pt x="17851" y="13562"/>
                  <a:pt x="17826" y="13527"/>
                </a:cubicBezTo>
                <a:cubicBezTo>
                  <a:pt x="17781" y="13465"/>
                  <a:pt x="17780" y="13458"/>
                  <a:pt x="17727" y="13395"/>
                </a:cubicBezTo>
                <a:cubicBezTo>
                  <a:pt x="17710" y="13375"/>
                  <a:pt x="17659" y="13338"/>
                  <a:pt x="17628" y="13295"/>
                </a:cubicBezTo>
                <a:cubicBezTo>
                  <a:pt x="17607" y="13266"/>
                  <a:pt x="17574" y="13212"/>
                  <a:pt x="17562" y="13196"/>
                </a:cubicBezTo>
                <a:cubicBezTo>
                  <a:pt x="17551" y="13185"/>
                  <a:pt x="17540" y="13174"/>
                  <a:pt x="17529" y="13163"/>
                </a:cubicBezTo>
              </a:path>
              <a:path w="3408" h="16273">
                <a:moveTo>
                  <a:pt x="18620" y="18951"/>
                </a:moveTo>
                <a:cubicBezTo>
                  <a:pt x="18597" y="18905"/>
                  <a:pt x="18584" y="18865"/>
                  <a:pt x="18554" y="18818"/>
                </a:cubicBezTo>
                <a:cubicBezTo>
                  <a:pt x="18539" y="18794"/>
                  <a:pt x="18476" y="18695"/>
                  <a:pt x="18455" y="18686"/>
                </a:cubicBezTo>
                <a:cubicBezTo>
                  <a:pt x="18381" y="18654"/>
                  <a:pt x="18248" y="18692"/>
                  <a:pt x="18190" y="18719"/>
                </a:cubicBezTo>
                <a:cubicBezTo>
                  <a:pt x="18137" y="18744"/>
                  <a:pt x="18110" y="18780"/>
                  <a:pt x="18058" y="18818"/>
                </a:cubicBezTo>
                <a:cubicBezTo>
                  <a:pt x="17986" y="18872"/>
                  <a:pt x="17920" y="18912"/>
                  <a:pt x="17859" y="18984"/>
                </a:cubicBezTo>
                <a:cubicBezTo>
                  <a:pt x="17821" y="19029"/>
                  <a:pt x="17756" y="19122"/>
                  <a:pt x="17727" y="19182"/>
                </a:cubicBezTo>
                <a:cubicBezTo>
                  <a:pt x="17701" y="19236"/>
                  <a:pt x="17649" y="19325"/>
                  <a:pt x="17628" y="19381"/>
                </a:cubicBezTo>
                <a:cubicBezTo>
                  <a:pt x="17615" y="19416"/>
                  <a:pt x="17567" y="19546"/>
                  <a:pt x="17562" y="19579"/>
                </a:cubicBezTo>
                <a:cubicBezTo>
                  <a:pt x="17542" y="19700"/>
                  <a:pt x="17557" y="19823"/>
                  <a:pt x="17529" y="19943"/>
                </a:cubicBezTo>
                <a:cubicBezTo>
                  <a:pt x="17498" y="20075"/>
                  <a:pt x="17490" y="20159"/>
                  <a:pt x="17529" y="20241"/>
                </a:cubicBezTo>
                <a:cubicBezTo>
                  <a:pt x="17562" y="20310"/>
                  <a:pt x="17618" y="20330"/>
                  <a:pt x="17661" y="20373"/>
                </a:cubicBezTo>
                <a:cubicBezTo>
                  <a:pt x="17432" y="20502"/>
                  <a:pt x="17399" y="20472"/>
                  <a:pt x="17099" y="20472"/>
                </a:cubicBezTo>
                <a:cubicBezTo>
                  <a:pt x="17199" y="20550"/>
                  <a:pt x="17155" y="20414"/>
                  <a:pt x="17198" y="20538"/>
                </a:cubicBezTo>
                <a:cubicBezTo>
                  <a:pt x="17253" y="20697"/>
                  <a:pt x="17174" y="20992"/>
                  <a:pt x="17165" y="21101"/>
                </a:cubicBezTo>
                <a:cubicBezTo>
                  <a:pt x="17148" y="21300"/>
                  <a:pt x="17145" y="21544"/>
                  <a:pt x="17198" y="21729"/>
                </a:cubicBezTo>
                <a:cubicBezTo>
                  <a:pt x="17216" y="21791"/>
                  <a:pt x="17238" y="21804"/>
                  <a:pt x="17264" y="21861"/>
                </a:cubicBezTo>
                <a:cubicBezTo>
                  <a:pt x="17299" y="21939"/>
                  <a:pt x="17287" y="21977"/>
                  <a:pt x="17330" y="22060"/>
                </a:cubicBezTo>
                <a:cubicBezTo>
                  <a:pt x="17374" y="22146"/>
                  <a:pt x="17398" y="22200"/>
                  <a:pt x="17429" y="22291"/>
                </a:cubicBezTo>
                <a:cubicBezTo>
                  <a:pt x="17455" y="22369"/>
                  <a:pt x="17488" y="22439"/>
                  <a:pt x="17496" y="22523"/>
                </a:cubicBezTo>
                <a:cubicBezTo>
                  <a:pt x="17505" y="22612"/>
                  <a:pt x="17525" y="22672"/>
                  <a:pt x="17529" y="22721"/>
                </a:cubicBezTo>
                <a:cubicBezTo>
                  <a:pt x="17536" y="22793"/>
                  <a:pt x="17542" y="22825"/>
                  <a:pt x="17562" y="22886"/>
                </a:cubicBezTo>
                <a:cubicBezTo>
                  <a:pt x="17582" y="22945"/>
                  <a:pt x="17617" y="23031"/>
                  <a:pt x="17661" y="23085"/>
                </a:cubicBezTo>
                <a:cubicBezTo>
                  <a:pt x="17724" y="23162"/>
                  <a:pt x="17800" y="23210"/>
                  <a:pt x="17859" y="23283"/>
                </a:cubicBezTo>
                <a:cubicBezTo>
                  <a:pt x="17913" y="23349"/>
                  <a:pt x="17939" y="23355"/>
                  <a:pt x="17992" y="23416"/>
                </a:cubicBezTo>
                <a:cubicBezTo>
                  <a:pt x="18022" y="23451"/>
                  <a:pt x="18061" y="23477"/>
                  <a:pt x="18091" y="23482"/>
                </a:cubicBezTo>
                <a:cubicBezTo>
                  <a:pt x="18149" y="23491"/>
                  <a:pt x="18180" y="23451"/>
                  <a:pt x="18190" y="23449"/>
                </a:cubicBezTo>
                <a:cubicBezTo>
                  <a:pt x="18286" y="23428"/>
                  <a:pt x="18274" y="23394"/>
                  <a:pt x="18355" y="23349"/>
                </a:cubicBezTo>
                <a:cubicBezTo>
                  <a:pt x="18420" y="23313"/>
                  <a:pt x="18457" y="23298"/>
                  <a:pt x="18521" y="23250"/>
                </a:cubicBezTo>
                <a:cubicBezTo>
                  <a:pt x="18547" y="23230"/>
                  <a:pt x="18611" y="23156"/>
                  <a:pt x="18653" y="23118"/>
                </a:cubicBezTo>
                <a:cubicBezTo>
                  <a:pt x="18683" y="23091"/>
                  <a:pt x="18760" y="23060"/>
                  <a:pt x="18785" y="23019"/>
                </a:cubicBezTo>
                <a:cubicBezTo>
                  <a:pt x="18802" y="22991"/>
                  <a:pt x="18847" y="22929"/>
                  <a:pt x="18852" y="22920"/>
                </a:cubicBezTo>
                <a:cubicBezTo>
                  <a:pt x="18876" y="22878"/>
                  <a:pt x="18906" y="22867"/>
                  <a:pt x="18918" y="22820"/>
                </a:cubicBezTo>
                <a:cubicBezTo>
                  <a:pt x="18937" y="22745"/>
                  <a:pt x="18941" y="22698"/>
                  <a:pt x="18951" y="22622"/>
                </a:cubicBezTo>
                <a:cubicBezTo>
                  <a:pt x="18958" y="22569"/>
                  <a:pt x="18980" y="22495"/>
                  <a:pt x="18984" y="22457"/>
                </a:cubicBezTo>
                <a:cubicBezTo>
                  <a:pt x="19066" y="21632"/>
                  <a:pt x="19115" y="20481"/>
                  <a:pt x="18951" y="19678"/>
                </a:cubicBezTo>
                <a:cubicBezTo>
                  <a:pt x="18931" y="19580"/>
                  <a:pt x="18933" y="19480"/>
                  <a:pt x="18918" y="19381"/>
                </a:cubicBezTo>
                <a:cubicBezTo>
                  <a:pt x="18907" y="19310"/>
                  <a:pt x="18904" y="19250"/>
                  <a:pt x="18885" y="19182"/>
                </a:cubicBezTo>
                <a:cubicBezTo>
                  <a:pt x="18867" y="19117"/>
                  <a:pt x="18797" y="19040"/>
                  <a:pt x="18785" y="18984"/>
                </a:cubicBezTo>
                <a:cubicBezTo>
                  <a:pt x="18765" y="18896"/>
                  <a:pt x="18799" y="18842"/>
                  <a:pt x="18719" y="18785"/>
                </a:cubicBezTo>
                <a:cubicBezTo>
                  <a:pt x="18683" y="18759"/>
                  <a:pt x="18689" y="18763"/>
                  <a:pt x="18620" y="18752"/>
                </a:cubicBezTo>
                <a:cubicBezTo>
                  <a:pt x="18491" y="18731"/>
                  <a:pt x="18414" y="18805"/>
                  <a:pt x="18289" y="18818"/>
                </a:cubicBezTo>
                <a:cubicBezTo>
                  <a:pt x="18142" y="18834"/>
                  <a:pt x="17980" y="18846"/>
                  <a:pt x="17859" y="18918"/>
                </a:cubicBezTo>
                <a:cubicBezTo>
                  <a:pt x="17819" y="18942"/>
                  <a:pt x="17811" y="18970"/>
                  <a:pt x="17793" y="1898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Ink 5"/>
          <p:cNvSpPr/>
          <p:nvPr/>
        </p:nvSpPr>
        <p:spPr>
          <a:xfrm>
            <a:off x="1677960" y="4524480"/>
            <a:ext cx="1596960" cy="1881000"/>
          </a:xfrm>
          <a:custGeom>
            <a:avLst/>
            <a:gdLst/>
            <a:ahLst/>
            <a:rect l="l" t="t" r="r" b="b"/>
            <a:pathLst>
              <a:path w="4433" h="5226">
                <a:moveTo>
                  <a:pt x="6085" y="13494"/>
                </a:moveTo>
                <a:cubicBezTo>
                  <a:pt x="6085" y="13403"/>
                  <a:pt x="6080" y="13339"/>
                  <a:pt x="6052" y="13262"/>
                </a:cubicBezTo>
                <a:cubicBezTo>
                  <a:pt x="6028" y="13195"/>
                  <a:pt x="6011" y="13206"/>
                  <a:pt x="5953" y="13196"/>
                </a:cubicBezTo>
                <a:cubicBezTo>
                  <a:pt x="5845" y="13177"/>
                  <a:pt x="5720" y="13193"/>
                  <a:pt x="5622" y="13229"/>
                </a:cubicBezTo>
                <a:cubicBezTo>
                  <a:pt x="5573" y="13247"/>
                  <a:pt x="5496" y="13286"/>
                  <a:pt x="5457" y="13328"/>
                </a:cubicBezTo>
                <a:cubicBezTo>
                  <a:pt x="5416" y="13372"/>
                  <a:pt x="5416" y="13476"/>
                  <a:pt x="5391" y="13527"/>
                </a:cubicBezTo>
                <a:cubicBezTo>
                  <a:pt x="5330" y="13653"/>
                  <a:pt x="5318" y="13696"/>
                  <a:pt x="5292" y="13824"/>
                </a:cubicBezTo>
                <a:cubicBezTo>
                  <a:pt x="5272" y="13922"/>
                  <a:pt x="5246" y="14036"/>
                  <a:pt x="5259" y="14155"/>
                </a:cubicBezTo>
                <a:cubicBezTo>
                  <a:pt x="5272" y="14274"/>
                  <a:pt x="5326" y="14401"/>
                  <a:pt x="5358" y="14519"/>
                </a:cubicBezTo>
                <a:cubicBezTo>
                  <a:pt x="5395" y="14658"/>
                  <a:pt x="5420" y="14806"/>
                  <a:pt x="5424" y="14949"/>
                </a:cubicBezTo>
                <a:cubicBezTo>
                  <a:pt x="5429" y="15150"/>
                  <a:pt x="5483" y="15316"/>
                  <a:pt x="5523" y="15511"/>
                </a:cubicBezTo>
                <a:cubicBezTo>
                  <a:pt x="5562" y="15701"/>
                  <a:pt x="5601" y="15914"/>
                  <a:pt x="5622" y="16107"/>
                </a:cubicBezTo>
                <a:cubicBezTo>
                  <a:pt x="5643" y="16299"/>
                  <a:pt x="5630" y="16521"/>
                  <a:pt x="5589" y="16702"/>
                </a:cubicBezTo>
                <a:cubicBezTo>
                  <a:pt x="5575" y="16761"/>
                  <a:pt x="5539" y="16845"/>
                  <a:pt x="5523" y="16867"/>
                </a:cubicBezTo>
                <a:cubicBezTo>
                  <a:pt x="5469" y="16940"/>
                  <a:pt x="5412" y="16942"/>
                  <a:pt x="5325" y="16933"/>
                </a:cubicBezTo>
                <a:cubicBezTo>
                  <a:pt x="5225" y="16923"/>
                  <a:pt x="5128" y="16856"/>
                  <a:pt x="5027" y="16834"/>
                </a:cubicBezTo>
                <a:cubicBezTo>
                  <a:pt x="4928" y="16813"/>
                  <a:pt x="4738" y="16831"/>
                  <a:pt x="4663" y="16735"/>
                </a:cubicBezTo>
                <a:cubicBezTo>
                  <a:pt x="4617" y="16676"/>
                  <a:pt x="4676" y="16491"/>
                  <a:pt x="4696" y="16470"/>
                </a:cubicBezTo>
                <a:cubicBezTo>
                  <a:pt x="4718" y="16459"/>
                  <a:pt x="4741" y="16448"/>
                  <a:pt x="4763" y="16437"/>
                </a:cubicBezTo>
              </a:path>
              <a:path w="4433" h="5226">
                <a:moveTo>
                  <a:pt x="6714" y="14717"/>
                </a:moveTo>
                <a:cubicBezTo>
                  <a:pt x="6714" y="14643"/>
                  <a:pt x="6688" y="14672"/>
                  <a:pt x="6681" y="14618"/>
                </a:cubicBezTo>
                <a:cubicBezTo>
                  <a:pt x="6673" y="14556"/>
                  <a:pt x="6634" y="14545"/>
                  <a:pt x="6615" y="14519"/>
                </a:cubicBezTo>
                <a:cubicBezTo>
                  <a:pt x="6576" y="14465"/>
                  <a:pt x="6566" y="14426"/>
                  <a:pt x="6515" y="14420"/>
                </a:cubicBezTo>
                <a:cubicBezTo>
                  <a:pt x="6438" y="14410"/>
                  <a:pt x="6419" y="14459"/>
                  <a:pt x="6383" y="14486"/>
                </a:cubicBezTo>
                <a:cubicBezTo>
                  <a:pt x="6299" y="14549"/>
                  <a:pt x="6317" y="14541"/>
                  <a:pt x="6317" y="14651"/>
                </a:cubicBezTo>
                <a:cubicBezTo>
                  <a:pt x="6317" y="14798"/>
                  <a:pt x="6389" y="15774"/>
                  <a:pt x="6284" y="15809"/>
                </a:cubicBezTo>
              </a:path>
              <a:path w="4433" h="5226">
                <a:moveTo>
                  <a:pt x="6218" y="15280"/>
                </a:moveTo>
                <a:cubicBezTo>
                  <a:pt x="6283" y="15280"/>
                  <a:pt x="6334" y="15251"/>
                  <a:pt x="6350" y="15247"/>
                </a:cubicBezTo>
                <a:cubicBezTo>
                  <a:pt x="6419" y="15228"/>
                  <a:pt x="6629" y="15223"/>
                  <a:pt x="6648" y="15280"/>
                </a:cubicBezTo>
              </a:path>
              <a:path w="4433" h="5226">
                <a:moveTo>
                  <a:pt x="7871" y="14651"/>
                </a:moveTo>
                <a:cubicBezTo>
                  <a:pt x="7817" y="14664"/>
                  <a:pt x="7785" y="14685"/>
                  <a:pt x="7739" y="14717"/>
                </a:cubicBezTo>
                <a:cubicBezTo>
                  <a:pt x="7656" y="14774"/>
                  <a:pt x="7591" y="14863"/>
                  <a:pt x="7508" y="14916"/>
                </a:cubicBezTo>
                <a:cubicBezTo>
                  <a:pt x="7446" y="14955"/>
                  <a:pt x="7363" y="15062"/>
                  <a:pt x="7342" y="15114"/>
                </a:cubicBezTo>
                <a:cubicBezTo>
                  <a:pt x="7300" y="15219"/>
                  <a:pt x="7338" y="15480"/>
                  <a:pt x="7375" y="15577"/>
                </a:cubicBezTo>
                <a:cubicBezTo>
                  <a:pt x="7399" y="15639"/>
                  <a:pt x="7503" y="15686"/>
                  <a:pt x="7574" y="15710"/>
                </a:cubicBezTo>
                <a:cubicBezTo>
                  <a:pt x="7642" y="15733"/>
                  <a:pt x="7764" y="15710"/>
                  <a:pt x="7838" y="15710"/>
                </a:cubicBezTo>
              </a:path>
              <a:path w="4433" h="5226">
                <a:moveTo>
                  <a:pt x="7904" y="15114"/>
                </a:moveTo>
                <a:cubicBezTo>
                  <a:pt x="7983" y="15133"/>
                  <a:pt x="8001" y="15198"/>
                  <a:pt x="8070" y="15247"/>
                </a:cubicBezTo>
                <a:cubicBezTo>
                  <a:pt x="8219" y="15353"/>
                  <a:pt x="8343" y="15498"/>
                  <a:pt x="8500" y="15610"/>
                </a:cubicBezTo>
                <a:cubicBezTo>
                  <a:pt x="8623" y="15698"/>
                  <a:pt x="8724" y="15802"/>
                  <a:pt x="8830" y="15908"/>
                </a:cubicBezTo>
                <a:cubicBezTo>
                  <a:pt x="8830" y="15812"/>
                  <a:pt x="8799" y="15788"/>
                  <a:pt x="8764" y="15710"/>
                </a:cubicBezTo>
                <a:cubicBezTo>
                  <a:pt x="8753" y="15677"/>
                  <a:pt x="8742" y="15643"/>
                  <a:pt x="8731" y="15610"/>
                </a:cubicBezTo>
              </a:path>
              <a:path w="4433" h="5226">
                <a:moveTo>
                  <a:pt x="8467" y="14982"/>
                </a:moveTo>
                <a:cubicBezTo>
                  <a:pt x="8343" y="15007"/>
                  <a:pt x="8354" y="15003"/>
                  <a:pt x="8301" y="15114"/>
                </a:cubicBezTo>
                <a:cubicBezTo>
                  <a:pt x="8248" y="15227"/>
                  <a:pt x="8213" y="15329"/>
                  <a:pt x="8169" y="15445"/>
                </a:cubicBezTo>
                <a:cubicBezTo>
                  <a:pt x="8132" y="15543"/>
                  <a:pt x="8078" y="15605"/>
                  <a:pt x="8070" y="15710"/>
                </a:cubicBezTo>
                <a:cubicBezTo>
                  <a:pt x="8065" y="15773"/>
                  <a:pt x="8081" y="15706"/>
                  <a:pt x="8103" y="15677"/>
                </a:cubicBezTo>
              </a:path>
              <a:path w="4433" h="5226">
                <a:moveTo>
                  <a:pt x="8764" y="14717"/>
                </a:moveTo>
                <a:cubicBezTo>
                  <a:pt x="8842" y="14757"/>
                  <a:pt x="8831" y="14853"/>
                  <a:pt x="8897" y="14916"/>
                </a:cubicBezTo>
                <a:cubicBezTo>
                  <a:pt x="9008" y="15021"/>
                  <a:pt x="9080" y="15092"/>
                  <a:pt x="9095" y="15247"/>
                </a:cubicBezTo>
                <a:cubicBezTo>
                  <a:pt x="9105" y="15355"/>
                  <a:pt x="9095" y="15468"/>
                  <a:pt x="9095" y="15577"/>
                </a:cubicBezTo>
                <a:cubicBezTo>
                  <a:pt x="9036" y="15577"/>
                  <a:pt x="9013" y="15594"/>
                  <a:pt x="8996" y="15544"/>
                </a:cubicBezTo>
              </a:path>
              <a:path w="4433" h="5226">
                <a:moveTo>
                  <a:pt x="5556" y="17198"/>
                </a:moveTo>
                <a:cubicBezTo>
                  <a:pt x="5482" y="17198"/>
                  <a:pt x="5413" y="17182"/>
                  <a:pt x="5358" y="17231"/>
                </a:cubicBezTo>
                <a:cubicBezTo>
                  <a:pt x="5309" y="17274"/>
                  <a:pt x="5271" y="17291"/>
                  <a:pt x="5226" y="17330"/>
                </a:cubicBezTo>
                <a:cubicBezTo>
                  <a:pt x="5210" y="17344"/>
                  <a:pt x="5129" y="17425"/>
                  <a:pt x="5126" y="17429"/>
                </a:cubicBezTo>
                <a:cubicBezTo>
                  <a:pt x="5096" y="17476"/>
                  <a:pt x="5093" y="17477"/>
                  <a:pt x="5093" y="17562"/>
                </a:cubicBezTo>
                <a:cubicBezTo>
                  <a:pt x="5093" y="17633"/>
                  <a:pt x="5077" y="17685"/>
                  <a:pt x="5159" y="17694"/>
                </a:cubicBezTo>
                <a:cubicBezTo>
                  <a:pt x="5230" y="17702"/>
                  <a:pt x="5252" y="17607"/>
                  <a:pt x="5292" y="17562"/>
                </a:cubicBezTo>
                <a:cubicBezTo>
                  <a:pt x="5316" y="17536"/>
                  <a:pt x="5340" y="17441"/>
                  <a:pt x="5358" y="17429"/>
                </a:cubicBezTo>
                <a:cubicBezTo>
                  <a:pt x="5394" y="17405"/>
                  <a:pt x="5445" y="17387"/>
                  <a:pt x="5457" y="17330"/>
                </a:cubicBezTo>
                <a:cubicBezTo>
                  <a:pt x="5469" y="17272"/>
                  <a:pt x="5490" y="17105"/>
                  <a:pt x="5490" y="17165"/>
                </a:cubicBezTo>
                <a:cubicBezTo>
                  <a:pt x="5490" y="17335"/>
                  <a:pt x="5496" y="17500"/>
                  <a:pt x="5523" y="17661"/>
                </a:cubicBezTo>
                <a:cubicBezTo>
                  <a:pt x="5538" y="17750"/>
                  <a:pt x="5522" y="17793"/>
                  <a:pt x="5622" y="17793"/>
                </a:cubicBezTo>
                <a:cubicBezTo>
                  <a:pt x="5730" y="17793"/>
                  <a:pt x="5763" y="17715"/>
                  <a:pt x="5854" y="17694"/>
                </a:cubicBezTo>
                <a:cubicBezTo>
                  <a:pt x="5914" y="17680"/>
                  <a:pt x="5946" y="17688"/>
                  <a:pt x="5953" y="17628"/>
                </a:cubicBezTo>
                <a:cubicBezTo>
                  <a:pt x="5953" y="17617"/>
                  <a:pt x="5953" y="17606"/>
                  <a:pt x="5953" y="17595"/>
                </a:cubicBezTo>
              </a:path>
              <a:path w="4433" h="5226">
                <a:moveTo>
                  <a:pt x="6383" y="12568"/>
                </a:moveTo>
                <a:cubicBezTo>
                  <a:pt x="6383" y="12665"/>
                  <a:pt x="6394" y="12751"/>
                  <a:pt x="6416" y="12832"/>
                </a:cubicBezTo>
                <a:cubicBezTo>
                  <a:pt x="6474" y="13045"/>
                  <a:pt x="6416" y="13649"/>
                  <a:pt x="6416" y="13428"/>
                </a:cubicBezTo>
                <a:cubicBezTo>
                  <a:pt x="6416" y="13333"/>
                  <a:pt x="6424" y="13245"/>
                  <a:pt x="6449" y="13196"/>
                </a:cubicBezTo>
                <a:cubicBezTo>
                  <a:pt x="6476" y="13143"/>
                  <a:pt x="6570" y="13160"/>
                  <a:pt x="6648" y="13130"/>
                </a:cubicBezTo>
                <a:cubicBezTo>
                  <a:pt x="6720" y="13103"/>
                  <a:pt x="6760" y="13056"/>
                  <a:pt x="6813" y="13097"/>
                </a:cubicBezTo>
                <a:cubicBezTo>
                  <a:pt x="6864" y="13137"/>
                  <a:pt x="6846" y="13202"/>
                  <a:pt x="6846" y="13262"/>
                </a:cubicBezTo>
                <a:cubicBezTo>
                  <a:pt x="6846" y="13372"/>
                  <a:pt x="6846" y="13483"/>
                  <a:pt x="6846" y="13593"/>
                </a:cubicBezTo>
                <a:cubicBezTo>
                  <a:pt x="6764" y="13593"/>
                  <a:pt x="6676" y="13614"/>
                  <a:pt x="6615" y="13560"/>
                </a:cubicBezTo>
                <a:cubicBezTo>
                  <a:pt x="6585" y="13530"/>
                  <a:pt x="6578" y="13519"/>
                  <a:pt x="6548" y="135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Ink 6"/>
          <p:cNvSpPr/>
          <p:nvPr/>
        </p:nvSpPr>
        <p:spPr>
          <a:xfrm>
            <a:off x="3584520" y="5060880"/>
            <a:ext cx="405000" cy="773280"/>
          </a:xfrm>
          <a:custGeom>
            <a:avLst/>
            <a:gdLst/>
            <a:ahLst/>
            <a:rect l="l" t="t" r="r" b="b"/>
            <a:pathLst>
              <a:path w="1125" h="2151">
                <a:moveTo>
                  <a:pt x="9955" y="14056"/>
                </a:moveTo>
                <a:cubicBezTo>
                  <a:pt x="9955" y="14196"/>
                  <a:pt x="9970" y="14356"/>
                  <a:pt x="10021" y="14486"/>
                </a:cubicBezTo>
                <a:cubicBezTo>
                  <a:pt x="10099" y="14688"/>
                  <a:pt x="10168" y="14835"/>
                  <a:pt x="10220" y="15048"/>
                </a:cubicBezTo>
                <a:cubicBezTo>
                  <a:pt x="10246" y="15155"/>
                  <a:pt x="10224" y="15279"/>
                  <a:pt x="10253" y="15379"/>
                </a:cubicBezTo>
                <a:cubicBezTo>
                  <a:pt x="10266" y="15422"/>
                  <a:pt x="10264" y="15408"/>
                  <a:pt x="10286" y="15445"/>
                </a:cubicBezTo>
                <a:cubicBezTo>
                  <a:pt x="10238" y="15418"/>
                  <a:pt x="10199" y="15392"/>
                  <a:pt x="10153" y="15346"/>
                </a:cubicBezTo>
                <a:cubicBezTo>
                  <a:pt x="10133" y="15326"/>
                  <a:pt x="10074" y="15324"/>
                  <a:pt x="10054" y="15280"/>
                </a:cubicBezTo>
                <a:cubicBezTo>
                  <a:pt x="10054" y="15269"/>
                  <a:pt x="10054" y="15258"/>
                  <a:pt x="10054" y="15247"/>
                </a:cubicBezTo>
                <a:cubicBezTo>
                  <a:pt x="10039" y="15259"/>
                  <a:pt x="9966" y="15276"/>
                  <a:pt x="9955" y="15313"/>
                </a:cubicBezTo>
                <a:cubicBezTo>
                  <a:pt x="9902" y="15499"/>
                  <a:pt x="9955" y="15782"/>
                  <a:pt x="9955" y="15974"/>
                </a:cubicBezTo>
                <a:cubicBezTo>
                  <a:pt x="10062" y="15974"/>
                  <a:pt x="10083" y="15985"/>
                  <a:pt x="10153" y="15908"/>
                </a:cubicBezTo>
                <a:cubicBezTo>
                  <a:pt x="10203" y="15854"/>
                  <a:pt x="10269" y="15774"/>
                  <a:pt x="10286" y="15710"/>
                </a:cubicBezTo>
                <a:cubicBezTo>
                  <a:pt x="10328" y="15553"/>
                  <a:pt x="10278" y="15659"/>
                  <a:pt x="10319" y="15577"/>
                </a:cubicBezTo>
              </a:path>
              <a:path w="1125" h="2151">
                <a:moveTo>
                  <a:pt x="10286" y="15313"/>
                </a:moveTo>
                <a:cubicBezTo>
                  <a:pt x="10374" y="15401"/>
                  <a:pt x="10475" y="15481"/>
                  <a:pt x="10583" y="15544"/>
                </a:cubicBezTo>
                <a:cubicBezTo>
                  <a:pt x="10726" y="15628"/>
                  <a:pt x="10825" y="15753"/>
                  <a:pt x="10947" y="15842"/>
                </a:cubicBezTo>
                <a:cubicBezTo>
                  <a:pt x="10958" y="15850"/>
                  <a:pt x="11037" y="15895"/>
                  <a:pt x="11046" y="15908"/>
                </a:cubicBezTo>
                <a:cubicBezTo>
                  <a:pt x="11107" y="15999"/>
                  <a:pt x="11082" y="15944"/>
                  <a:pt x="11046" y="15908"/>
                </a:cubicBezTo>
                <a:cubicBezTo>
                  <a:pt x="11035" y="15908"/>
                  <a:pt x="11024" y="15908"/>
                  <a:pt x="11013" y="15908"/>
                </a:cubicBezTo>
              </a:path>
              <a:path w="1125" h="2151">
                <a:moveTo>
                  <a:pt x="10914" y="15577"/>
                </a:moveTo>
                <a:cubicBezTo>
                  <a:pt x="10848" y="15643"/>
                  <a:pt x="10721" y="15763"/>
                  <a:pt x="10683" y="15842"/>
                </a:cubicBezTo>
                <a:cubicBezTo>
                  <a:pt x="10643" y="15925"/>
                  <a:pt x="10622" y="16055"/>
                  <a:pt x="10583" y="16140"/>
                </a:cubicBezTo>
                <a:cubicBezTo>
                  <a:pt x="10556" y="16199"/>
                  <a:pt x="10546" y="16206"/>
                  <a:pt x="10484" y="16206"/>
                </a:cubicBezTo>
                <a:cubicBezTo>
                  <a:pt x="10473" y="16206"/>
                  <a:pt x="10462" y="16206"/>
                  <a:pt x="10451" y="1620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3"/>
          <p:cNvSpPr/>
          <p:nvPr/>
        </p:nvSpPr>
        <p:spPr>
          <a:xfrm>
            <a:off x="343080" y="2336760"/>
            <a:ext cx="611496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tinuous on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                           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                                           , wher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an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tiderivativ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at is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FUNDAMENTAL THEOREM OF CALCUL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4"/>
              <p:cNvSpPr txBox="1"/>
              <p:nvPr/>
            </p:nvSpPr>
            <p:spPr>
              <a:xfrm>
                <a:off x="990720" y="5029200"/>
                <a:ext cx="4438440" cy="12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6"/>
              <p:cNvSpPr txBox="1"/>
              <p:nvPr/>
            </p:nvSpPr>
            <p:spPr>
              <a:xfrm>
                <a:off x="1371600" y="3276720"/>
                <a:ext cx="2590920" cy="120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" name="Ink 6"/>
          <p:cNvSpPr/>
          <p:nvPr/>
        </p:nvSpPr>
        <p:spPr>
          <a:xfrm>
            <a:off x="3273480" y="5572080"/>
            <a:ext cx="226800" cy="666720"/>
          </a:xfrm>
          <a:custGeom>
            <a:avLst/>
            <a:gdLst/>
            <a:ahLst/>
            <a:rect l="l" t="t" r="r" b="b"/>
            <a:pathLst>
              <a:path w="629" h="1853">
                <a:moveTo>
                  <a:pt x="9624" y="15511"/>
                </a:moveTo>
                <a:cubicBezTo>
                  <a:pt x="9592" y="15492"/>
                  <a:pt x="9594" y="15482"/>
                  <a:pt x="9525" y="15478"/>
                </a:cubicBezTo>
                <a:cubicBezTo>
                  <a:pt x="9476" y="15475"/>
                  <a:pt x="9429" y="15489"/>
                  <a:pt x="9393" y="15511"/>
                </a:cubicBezTo>
                <a:cubicBezTo>
                  <a:pt x="9362" y="15530"/>
                  <a:pt x="9349" y="15563"/>
                  <a:pt x="9327" y="15577"/>
                </a:cubicBezTo>
                <a:cubicBezTo>
                  <a:pt x="9274" y="15611"/>
                  <a:pt x="9263" y="15629"/>
                  <a:pt x="9227" y="15677"/>
                </a:cubicBezTo>
                <a:cubicBezTo>
                  <a:pt x="9208" y="15703"/>
                  <a:pt x="9184" y="15748"/>
                  <a:pt x="9161" y="15776"/>
                </a:cubicBezTo>
                <a:cubicBezTo>
                  <a:pt x="9135" y="15809"/>
                  <a:pt x="9153" y="15824"/>
                  <a:pt x="9128" y="15875"/>
                </a:cubicBezTo>
                <a:cubicBezTo>
                  <a:pt x="9100" y="15932"/>
                  <a:pt x="9099" y="15939"/>
                  <a:pt x="9095" y="16007"/>
                </a:cubicBezTo>
                <a:cubicBezTo>
                  <a:pt x="9090" y="16089"/>
                  <a:pt x="9097" y="16134"/>
                  <a:pt x="9128" y="16173"/>
                </a:cubicBezTo>
                <a:cubicBezTo>
                  <a:pt x="9177" y="16234"/>
                  <a:pt x="9204" y="16180"/>
                  <a:pt x="9260" y="16206"/>
                </a:cubicBezTo>
                <a:cubicBezTo>
                  <a:pt x="9286" y="16218"/>
                  <a:pt x="9295" y="16235"/>
                  <a:pt x="9360" y="16239"/>
                </a:cubicBezTo>
                <a:cubicBezTo>
                  <a:pt x="9421" y="16243"/>
                  <a:pt x="9445" y="16243"/>
                  <a:pt x="9492" y="16206"/>
                </a:cubicBezTo>
                <a:cubicBezTo>
                  <a:pt x="9518" y="16186"/>
                  <a:pt x="9520" y="16145"/>
                  <a:pt x="9558" y="16107"/>
                </a:cubicBezTo>
                <a:cubicBezTo>
                  <a:pt x="9583" y="16081"/>
                  <a:pt x="9616" y="16049"/>
                  <a:pt x="9624" y="16007"/>
                </a:cubicBezTo>
                <a:cubicBezTo>
                  <a:pt x="9634" y="15955"/>
                  <a:pt x="9649" y="15923"/>
                  <a:pt x="9657" y="15875"/>
                </a:cubicBezTo>
                <a:cubicBezTo>
                  <a:pt x="9667" y="15812"/>
                  <a:pt x="9686" y="15697"/>
                  <a:pt x="9690" y="15677"/>
                </a:cubicBezTo>
                <a:cubicBezTo>
                  <a:pt x="9690" y="15643"/>
                  <a:pt x="9690" y="15632"/>
                  <a:pt x="9690" y="15610"/>
                </a:cubicBezTo>
                <a:cubicBezTo>
                  <a:pt x="9723" y="15666"/>
                  <a:pt x="9719" y="15676"/>
                  <a:pt x="9723" y="15743"/>
                </a:cubicBezTo>
                <a:cubicBezTo>
                  <a:pt x="9741" y="16063"/>
                  <a:pt x="9867" y="17043"/>
                  <a:pt x="9690" y="17264"/>
                </a:cubicBezTo>
                <a:cubicBezTo>
                  <a:pt x="9662" y="17299"/>
                  <a:pt x="9675" y="17315"/>
                  <a:pt x="9624" y="17330"/>
                </a:cubicBezTo>
                <a:cubicBezTo>
                  <a:pt x="9527" y="17358"/>
                  <a:pt x="9370" y="17335"/>
                  <a:pt x="9293" y="17297"/>
                </a:cubicBezTo>
                <a:cubicBezTo>
                  <a:pt x="9210" y="17256"/>
                  <a:pt x="9234" y="17238"/>
                  <a:pt x="9194" y="17198"/>
                </a:cubicBezTo>
                <a:cubicBezTo>
                  <a:pt x="9159" y="17163"/>
                  <a:pt x="9171" y="17201"/>
                  <a:pt x="9161" y="1713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Ink 7"/>
          <p:cNvSpPr/>
          <p:nvPr/>
        </p:nvSpPr>
        <p:spPr>
          <a:xfrm>
            <a:off x="4500720" y="5537160"/>
            <a:ext cx="237960" cy="666720"/>
          </a:xfrm>
          <a:custGeom>
            <a:avLst/>
            <a:gdLst/>
            <a:ahLst/>
            <a:rect l="l" t="t" r="r" b="b"/>
            <a:pathLst>
              <a:path w="662" h="1853">
                <a:moveTo>
                  <a:pt x="13163" y="15379"/>
                </a:moveTo>
                <a:cubicBezTo>
                  <a:pt x="13093" y="15379"/>
                  <a:pt x="13053" y="15401"/>
                  <a:pt x="12998" y="15412"/>
                </a:cubicBezTo>
                <a:cubicBezTo>
                  <a:pt x="12933" y="15425"/>
                  <a:pt x="12948" y="15435"/>
                  <a:pt x="12898" y="15445"/>
                </a:cubicBezTo>
                <a:cubicBezTo>
                  <a:pt x="12849" y="15455"/>
                  <a:pt x="12807" y="15453"/>
                  <a:pt x="12766" y="15478"/>
                </a:cubicBezTo>
                <a:cubicBezTo>
                  <a:pt x="12735" y="15497"/>
                  <a:pt x="12723" y="15529"/>
                  <a:pt x="12700" y="15544"/>
                </a:cubicBezTo>
                <a:cubicBezTo>
                  <a:pt x="12656" y="15572"/>
                  <a:pt x="12613" y="15598"/>
                  <a:pt x="12568" y="15643"/>
                </a:cubicBezTo>
                <a:cubicBezTo>
                  <a:pt x="12537" y="15675"/>
                  <a:pt x="12514" y="15667"/>
                  <a:pt x="12502" y="15710"/>
                </a:cubicBezTo>
                <a:cubicBezTo>
                  <a:pt x="12473" y="15812"/>
                  <a:pt x="12519" y="15925"/>
                  <a:pt x="12535" y="16007"/>
                </a:cubicBezTo>
                <a:cubicBezTo>
                  <a:pt x="12545" y="16055"/>
                  <a:pt x="12539" y="16084"/>
                  <a:pt x="12568" y="16107"/>
                </a:cubicBezTo>
                <a:cubicBezTo>
                  <a:pt x="12604" y="16135"/>
                  <a:pt x="12688" y="16203"/>
                  <a:pt x="12700" y="16206"/>
                </a:cubicBezTo>
                <a:cubicBezTo>
                  <a:pt x="12778" y="16228"/>
                  <a:pt x="12866" y="16198"/>
                  <a:pt x="12898" y="16173"/>
                </a:cubicBezTo>
                <a:cubicBezTo>
                  <a:pt x="12931" y="16147"/>
                  <a:pt x="12937" y="16135"/>
                  <a:pt x="12965" y="16107"/>
                </a:cubicBezTo>
                <a:cubicBezTo>
                  <a:pt x="12996" y="16075"/>
                  <a:pt x="13019" y="16083"/>
                  <a:pt x="13031" y="16040"/>
                </a:cubicBezTo>
                <a:cubicBezTo>
                  <a:pt x="13047" y="15983"/>
                  <a:pt x="13055" y="15985"/>
                  <a:pt x="13064" y="15941"/>
                </a:cubicBezTo>
                <a:cubicBezTo>
                  <a:pt x="13078" y="15871"/>
                  <a:pt x="13067" y="15879"/>
                  <a:pt x="13097" y="15842"/>
                </a:cubicBezTo>
                <a:cubicBezTo>
                  <a:pt x="13126" y="15806"/>
                  <a:pt x="13106" y="15791"/>
                  <a:pt x="13130" y="15743"/>
                </a:cubicBezTo>
                <a:cubicBezTo>
                  <a:pt x="13152" y="15698"/>
                  <a:pt x="13159" y="15710"/>
                  <a:pt x="13163" y="15643"/>
                </a:cubicBezTo>
                <a:cubicBezTo>
                  <a:pt x="13163" y="15610"/>
                  <a:pt x="13163" y="15599"/>
                  <a:pt x="13163" y="15577"/>
                </a:cubicBezTo>
                <a:cubicBezTo>
                  <a:pt x="13163" y="16034"/>
                  <a:pt x="13209" y="16600"/>
                  <a:pt x="13130" y="16999"/>
                </a:cubicBezTo>
                <a:cubicBezTo>
                  <a:pt x="13120" y="17049"/>
                  <a:pt x="13122" y="17091"/>
                  <a:pt x="13097" y="17132"/>
                </a:cubicBezTo>
                <a:cubicBezTo>
                  <a:pt x="13049" y="17210"/>
                  <a:pt x="13059" y="17162"/>
                  <a:pt x="12998" y="17198"/>
                </a:cubicBezTo>
                <a:cubicBezTo>
                  <a:pt x="12966" y="17216"/>
                  <a:pt x="12968" y="17227"/>
                  <a:pt x="12898" y="17231"/>
                </a:cubicBezTo>
                <a:cubicBezTo>
                  <a:pt x="12811" y="17236"/>
                  <a:pt x="12721" y="17231"/>
                  <a:pt x="12634" y="17231"/>
                </a:cubicBezTo>
                <a:cubicBezTo>
                  <a:pt x="12634" y="17148"/>
                  <a:pt x="12634" y="17107"/>
                  <a:pt x="12601" y="17066"/>
                </a:cubicBezTo>
                <a:cubicBezTo>
                  <a:pt x="12601" y="17033"/>
                  <a:pt x="12601" y="17022"/>
                  <a:pt x="12568" y="170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Ink 8"/>
          <p:cNvSpPr/>
          <p:nvPr/>
        </p:nvSpPr>
        <p:spPr>
          <a:xfrm>
            <a:off x="4870440" y="7202520"/>
            <a:ext cx="452520" cy="631800"/>
          </a:xfrm>
          <a:custGeom>
            <a:avLst/>
            <a:gdLst/>
            <a:ahLst/>
            <a:rect l="l" t="t" r="r" b="b"/>
            <a:pathLst>
              <a:path w="1258" h="1754">
                <a:moveTo>
                  <a:pt x="14751" y="20009"/>
                </a:moveTo>
                <a:cubicBezTo>
                  <a:pt x="14679" y="20019"/>
                  <a:pt x="14688" y="20013"/>
                  <a:pt x="14651" y="20042"/>
                </a:cubicBezTo>
                <a:cubicBezTo>
                  <a:pt x="14619" y="20067"/>
                  <a:pt x="14612" y="20081"/>
                  <a:pt x="14585" y="20108"/>
                </a:cubicBezTo>
                <a:cubicBezTo>
                  <a:pt x="14571" y="20122"/>
                  <a:pt x="14502" y="20155"/>
                  <a:pt x="14486" y="20174"/>
                </a:cubicBezTo>
                <a:cubicBezTo>
                  <a:pt x="14454" y="20211"/>
                  <a:pt x="14433" y="20227"/>
                  <a:pt x="14420" y="20274"/>
                </a:cubicBezTo>
                <a:cubicBezTo>
                  <a:pt x="14401" y="20339"/>
                  <a:pt x="14369" y="20320"/>
                  <a:pt x="14354" y="20373"/>
                </a:cubicBezTo>
                <a:cubicBezTo>
                  <a:pt x="14338" y="20430"/>
                  <a:pt x="14330" y="20428"/>
                  <a:pt x="14321" y="20472"/>
                </a:cubicBezTo>
                <a:cubicBezTo>
                  <a:pt x="14303" y="20563"/>
                  <a:pt x="14321" y="20590"/>
                  <a:pt x="14387" y="20638"/>
                </a:cubicBezTo>
                <a:cubicBezTo>
                  <a:pt x="14449" y="20682"/>
                  <a:pt x="14522" y="20740"/>
                  <a:pt x="14585" y="20803"/>
                </a:cubicBezTo>
                <a:cubicBezTo>
                  <a:pt x="14619" y="20837"/>
                  <a:pt x="14630" y="20848"/>
                  <a:pt x="14651" y="20869"/>
                </a:cubicBezTo>
                <a:cubicBezTo>
                  <a:pt x="14676" y="20844"/>
                  <a:pt x="14711" y="20811"/>
                  <a:pt x="14717" y="20770"/>
                </a:cubicBezTo>
                <a:cubicBezTo>
                  <a:pt x="14730" y="20682"/>
                  <a:pt x="14747" y="20681"/>
                  <a:pt x="14751" y="20604"/>
                </a:cubicBezTo>
                <a:cubicBezTo>
                  <a:pt x="14754" y="20545"/>
                  <a:pt x="14775" y="20525"/>
                  <a:pt x="14784" y="20472"/>
                </a:cubicBezTo>
                <a:cubicBezTo>
                  <a:pt x="14790" y="20435"/>
                  <a:pt x="14784" y="20236"/>
                  <a:pt x="14784" y="20307"/>
                </a:cubicBezTo>
                <a:cubicBezTo>
                  <a:pt x="14784" y="20415"/>
                  <a:pt x="14768" y="20503"/>
                  <a:pt x="14751" y="20604"/>
                </a:cubicBezTo>
                <a:cubicBezTo>
                  <a:pt x="14731" y="20726"/>
                  <a:pt x="14760" y="20828"/>
                  <a:pt x="14717" y="20935"/>
                </a:cubicBezTo>
                <a:cubicBezTo>
                  <a:pt x="14693" y="20994"/>
                  <a:pt x="14692" y="21051"/>
                  <a:pt x="14651" y="21101"/>
                </a:cubicBezTo>
                <a:cubicBezTo>
                  <a:pt x="14622" y="21137"/>
                  <a:pt x="14642" y="21152"/>
                  <a:pt x="14618" y="21200"/>
                </a:cubicBezTo>
                <a:cubicBezTo>
                  <a:pt x="14584" y="21268"/>
                  <a:pt x="14529" y="21309"/>
                  <a:pt x="14486" y="21365"/>
                </a:cubicBezTo>
                <a:cubicBezTo>
                  <a:pt x="14467" y="21390"/>
                  <a:pt x="14445" y="21431"/>
                  <a:pt x="14420" y="21464"/>
                </a:cubicBezTo>
                <a:cubicBezTo>
                  <a:pt x="14391" y="21503"/>
                  <a:pt x="14313" y="21600"/>
                  <a:pt x="14254" y="21663"/>
                </a:cubicBezTo>
                <a:cubicBezTo>
                  <a:pt x="14171" y="21750"/>
                  <a:pt x="14214" y="21747"/>
                  <a:pt x="14122" y="21762"/>
                </a:cubicBezTo>
                <a:cubicBezTo>
                  <a:pt x="13957" y="21790"/>
                  <a:pt x="13800" y="21626"/>
                  <a:pt x="13659" y="21564"/>
                </a:cubicBezTo>
                <a:cubicBezTo>
                  <a:pt x="13550" y="21516"/>
                  <a:pt x="13572" y="21528"/>
                  <a:pt x="13527" y="2149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Ink 9"/>
          <p:cNvSpPr/>
          <p:nvPr/>
        </p:nvSpPr>
        <p:spPr>
          <a:xfrm>
            <a:off x="1368360" y="5143680"/>
            <a:ext cx="1013040" cy="1023840"/>
          </a:xfrm>
          <a:custGeom>
            <a:avLst/>
            <a:gdLst/>
            <a:ahLst/>
            <a:rect l="l" t="t" r="r" b="b"/>
            <a:pathLst>
              <a:path w="2813" h="2845">
                <a:moveTo>
                  <a:pt x="4928" y="14486"/>
                </a:moveTo>
                <a:cubicBezTo>
                  <a:pt x="4842" y="14493"/>
                  <a:pt x="4779" y="14500"/>
                  <a:pt x="4696" y="14519"/>
                </a:cubicBezTo>
                <a:cubicBezTo>
                  <a:pt x="4578" y="14546"/>
                  <a:pt x="4483" y="14608"/>
                  <a:pt x="4366" y="14651"/>
                </a:cubicBezTo>
                <a:cubicBezTo>
                  <a:pt x="4282" y="14682"/>
                  <a:pt x="4293" y="14712"/>
                  <a:pt x="4233" y="14751"/>
                </a:cubicBezTo>
                <a:cubicBezTo>
                  <a:pt x="4211" y="14765"/>
                  <a:pt x="4158" y="14797"/>
                  <a:pt x="4134" y="14817"/>
                </a:cubicBezTo>
                <a:cubicBezTo>
                  <a:pt x="4077" y="14864"/>
                  <a:pt x="4052" y="14886"/>
                  <a:pt x="4002" y="14949"/>
                </a:cubicBezTo>
                <a:cubicBezTo>
                  <a:pt x="3967" y="14994"/>
                  <a:pt x="3959" y="15033"/>
                  <a:pt x="3936" y="15081"/>
                </a:cubicBezTo>
                <a:cubicBezTo>
                  <a:pt x="3900" y="15157"/>
                  <a:pt x="3868" y="15241"/>
                  <a:pt x="3836" y="15313"/>
                </a:cubicBezTo>
                <a:cubicBezTo>
                  <a:pt x="3812" y="15368"/>
                  <a:pt x="3811" y="15383"/>
                  <a:pt x="3803" y="15445"/>
                </a:cubicBezTo>
                <a:cubicBezTo>
                  <a:pt x="3784" y="15601"/>
                  <a:pt x="3785" y="15798"/>
                  <a:pt x="3836" y="15941"/>
                </a:cubicBezTo>
                <a:cubicBezTo>
                  <a:pt x="3856" y="15998"/>
                  <a:pt x="3838" y="16046"/>
                  <a:pt x="3870" y="16107"/>
                </a:cubicBezTo>
                <a:cubicBezTo>
                  <a:pt x="3879" y="16124"/>
                  <a:pt x="3951" y="16196"/>
                  <a:pt x="3969" y="16239"/>
                </a:cubicBezTo>
                <a:cubicBezTo>
                  <a:pt x="4001" y="16316"/>
                  <a:pt x="4034" y="16361"/>
                  <a:pt x="4068" y="16437"/>
                </a:cubicBezTo>
                <a:cubicBezTo>
                  <a:pt x="4094" y="16496"/>
                  <a:pt x="4084" y="16511"/>
                  <a:pt x="4134" y="16570"/>
                </a:cubicBezTo>
                <a:cubicBezTo>
                  <a:pt x="4170" y="16612"/>
                  <a:pt x="4211" y="16647"/>
                  <a:pt x="4233" y="16669"/>
                </a:cubicBezTo>
                <a:cubicBezTo>
                  <a:pt x="4295" y="16731"/>
                  <a:pt x="4376" y="16786"/>
                  <a:pt x="4432" y="16834"/>
                </a:cubicBezTo>
                <a:cubicBezTo>
                  <a:pt x="4467" y="16864"/>
                  <a:pt x="4514" y="16922"/>
                  <a:pt x="4531" y="16933"/>
                </a:cubicBezTo>
                <a:cubicBezTo>
                  <a:pt x="4568" y="16958"/>
                  <a:pt x="4640" y="16979"/>
                  <a:pt x="4696" y="16999"/>
                </a:cubicBezTo>
                <a:cubicBezTo>
                  <a:pt x="4751" y="17018"/>
                  <a:pt x="4801" y="17057"/>
                  <a:pt x="4862" y="17066"/>
                </a:cubicBezTo>
                <a:cubicBezTo>
                  <a:pt x="4921" y="17075"/>
                  <a:pt x="5006" y="17093"/>
                  <a:pt x="5060" y="17099"/>
                </a:cubicBezTo>
                <a:cubicBezTo>
                  <a:pt x="5152" y="17109"/>
                  <a:pt x="5238" y="17123"/>
                  <a:pt x="5325" y="17132"/>
                </a:cubicBezTo>
                <a:cubicBezTo>
                  <a:pt x="5433" y="17143"/>
                  <a:pt x="5533" y="17109"/>
                  <a:pt x="5622" y="17099"/>
                </a:cubicBezTo>
                <a:cubicBezTo>
                  <a:pt x="5702" y="17090"/>
                  <a:pt x="5753" y="17086"/>
                  <a:pt x="5821" y="17066"/>
                </a:cubicBezTo>
                <a:cubicBezTo>
                  <a:pt x="5879" y="17049"/>
                  <a:pt x="5913" y="17015"/>
                  <a:pt x="5953" y="16999"/>
                </a:cubicBezTo>
                <a:cubicBezTo>
                  <a:pt x="6023" y="16972"/>
                  <a:pt x="6091" y="16947"/>
                  <a:pt x="6152" y="16900"/>
                </a:cubicBezTo>
                <a:cubicBezTo>
                  <a:pt x="6198" y="16865"/>
                  <a:pt x="6230" y="16828"/>
                  <a:pt x="6251" y="16801"/>
                </a:cubicBezTo>
                <a:cubicBezTo>
                  <a:pt x="6265" y="16783"/>
                  <a:pt x="6336" y="16729"/>
                  <a:pt x="6350" y="16702"/>
                </a:cubicBezTo>
                <a:cubicBezTo>
                  <a:pt x="6369" y="16666"/>
                  <a:pt x="6358" y="16605"/>
                  <a:pt x="6383" y="16570"/>
                </a:cubicBezTo>
                <a:cubicBezTo>
                  <a:pt x="6406" y="16537"/>
                  <a:pt x="6425" y="16520"/>
                  <a:pt x="6449" y="16470"/>
                </a:cubicBezTo>
                <a:cubicBezTo>
                  <a:pt x="6473" y="16420"/>
                  <a:pt x="6507" y="16425"/>
                  <a:pt x="6515" y="16371"/>
                </a:cubicBezTo>
                <a:cubicBezTo>
                  <a:pt x="6523" y="16318"/>
                  <a:pt x="6542" y="16247"/>
                  <a:pt x="6548" y="16206"/>
                </a:cubicBezTo>
                <a:cubicBezTo>
                  <a:pt x="6556" y="16152"/>
                  <a:pt x="6577" y="16080"/>
                  <a:pt x="6582" y="16040"/>
                </a:cubicBezTo>
                <a:cubicBezTo>
                  <a:pt x="6594" y="15951"/>
                  <a:pt x="6612" y="15900"/>
                  <a:pt x="6615" y="15809"/>
                </a:cubicBezTo>
                <a:cubicBezTo>
                  <a:pt x="6620" y="15649"/>
                  <a:pt x="6620" y="15500"/>
                  <a:pt x="6582" y="15346"/>
                </a:cubicBezTo>
                <a:cubicBezTo>
                  <a:pt x="6566" y="15281"/>
                  <a:pt x="6564" y="15220"/>
                  <a:pt x="6548" y="15147"/>
                </a:cubicBezTo>
                <a:cubicBezTo>
                  <a:pt x="6542" y="15118"/>
                  <a:pt x="6530" y="15040"/>
                  <a:pt x="6515" y="15015"/>
                </a:cubicBezTo>
                <a:cubicBezTo>
                  <a:pt x="6485" y="14964"/>
                  <a:pt x="6450" y="14898"/>
                  <a:pt x="6416" y="14850"/>
                </a:cubicBezTo>
                <a:cubicBezTo>
                  <a:pt x="6371" y="14787"/>
                  <a:pt x="6340" y="14761"/>
                  <a:pt x="6284" y="14717"/>
                </a:cubicBezTo>
                <a:cubicBezTo>
                  <a:pt x="6256" y="14695"/>
                  <a:pt x="6193" y="14679"/>
                  <a:pt x="6152" y="14651"/>
                </a:cubicBezTo>
                <a:cubicBezTo>
                  <a:pt x="6088" y="14607"/>
                  <a:pt x="6097" y="14582"/>
                  <a:pt x="6019" y="14552"/>
                </a:cubicBezTo>
                <a:cubicBezTo>
                  <a:pt x="5929" y="14517"/>
                  <a:pt x="5845" y="14488"/>
                  <a:pt x="5755" y="14453"/>
                </a:cubicBezTo>
                <a:cubicBezTo>
                  <a:pt x="5683" y="14425"/>
                  <a:pt x="5623" y="14384"/>
                  <a:pt x="5556" y="14354"/>
                </a:cubicBezTo>
                <a:cubicBezTo>
                  <a:pt x="5513" y="14335"/>
                  <a:pt x="5469" y="14337"/>
                  <a:pt x="5424" y="14321"/>
                </a:cubicBezTo>
                <a:cubicBezTo>
                  <a:pt x="5369" y="14301"/>
                  <a:pt x="5359" y="14290"/>
                  <a:pt x="5292" y="14288"/>
                </a:cubicBezTo>
                <a:cubicBezTo>
                  <a:pt x="5064" y="14280"/>
                  <a:pt x="4770" y="14302"/>
                  <a:pt x="4597" y="14321"/>
                </a:cubicBezTo>
                <a:cubicBezTo>
                  <a:pt x="4564" y="14321"/>
                  <a:pt x="4553" y="14321"/>
                  <a:pt x="4531" y="1432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Ink 10"/>
          <p:cNvSpPr/>
          <p:nvPr/>
        </p:nvSpPr>
        <p:spPr>
          <a:xfrm>
            <a:off x="1441440" y="6535800"/>
            <a:ext cx="273240" cy="406440"/>
          </a:xfrm>
          <a:custGeom>
            <a:avLst/>
            <a:gdLst/>
            <a:ahLst/>
            <a:rect l="l" t="t" r="r" b="b"/>
            <a:pathLst>
              <a:path w="762" h="1126">
                <a:moveTo>
                  <a:pt x="4663" y="18157"/>
                </a:moveTo>
                <a:cubicBezTo>
                  <a:pt x="4595" y="18157"/>
                  <a:pt x="4592" y="18176"/>
                  <a:pt x="4564" y="18190"/>
                </a:cubicBezTo>
                <a:cubicBezTo>
                  <a:pt x="4525" y="18210"/>
                  <a:pt x="4507" y="18211"/>
                  <a:pt x="4465" y="18223"/>
                </a:cubicBezTo>
                <a:cubicBezTo>
                  <a:pt x="4410" y="18238"/>
                  <a:pt x="4354" y="18215"/>
                  <a:pt x="4333" y="18256"/>
                </a:cubicBezTo>
                <a:cubicBezTo>
                  <a:pt x="4328" y="18267"/>
                  <a:pt x="4278" y="18347"/>
                  <a:pt x="4266" y="18355"/>
                </a:cubicBezTo>
                <a:cubicBezTo>
                  <a:pt x="4233" y="18377"/>
                  <a:pt x="4206" y="18374"/>
                  <a:pt x="4200" y="18422"/>
                </a:cubicBezTo>
                <a:cubicBezTo>
                  <a:pt x="4194" y="18469"/>
                  <a:pt x="4184" y="18562"/>
                  <a:pt x="4233" y="18587"/>
                </a:cubicBezTo>
                <a:cubicBezTo>
                  <a:pt x="4298" y="18620"/>
                  <a:pt x="4310" y="18649"/>
                  <a:pt x="4366" y="18686"/>
                </a:cubicBezTo>
                <a:cubicBezTo>
                  <a:pt x="4432" y="18730"/>
                  <a:pt x="4607" y="18664"/>
                  <a:pt x="4630" y="18653"/>
                </a:cubicBezTo>
                <a:cubicBezTo>
                  <a:pt x="4689" y="18624"/>
                  <a:pt x="4696" y="18630"/>
                  <a:pt x="4696" y="18554"/>
                </a:cubicBezTo>
                <a:cubicBezTo>
                  <a:pt x="4696" y="18502"/>
                  <a:pt x="4729" y="18528"/>
                  <a:pt x="4729" y="18455"/>
                </a:cubicBezTo>
                <a:cubicBezTo>
                  <a:pt x="4729" y="18406"/>
                  <a:pt x="4727" y="18288"/>
                  <a:pt x="4763" y="18322"/>
                </a:cubicBezTo>
                <a:cubicBezTo>
                  <a:pt x="4804" y="18360"/>
                  <a:pt x="4733" y="18452"/>
                  <a:pt x="4729" y="18488"/>
                </a:cubicBezTo>
                <a:cubicBezTo>
                  <a:pt x="4720" y="18569"/>
                  <a:pt x="4719" y="18617"/>
                  <a:pt x="4696" y="18686"/>
                </a:cubicBezTo>
                <a:cubicBezTo>
                  <a:pt x="4670" y="18765"/>
                  <a:pt x="4721" y="18808"/>
                  <a:pt x="4663" y="18852"/>
                </a:cubicBezTo>
                <a:cubicBezTo>
                  <a:pt x="4615" y="18888"/>
                  <a:pt x="4563" y="18980"/>
                  <a:pt x="4531" y="19017"/>
                </a:cubicBezTo>
                <a:cubicBezTo>
                  <a:pt x="4496" y="19057"/>
                  <a:pt x="4422" y="19131"/>
                  <a:pt x="4399" y="19182"/>
                </a:cubicBezTo>
                <a:cubicBezTo>
                  <a:pt x="4399" y="19215"/>
                  <a:pt x="4399" y="19226"/>
                  <a:pt x="4399" y="19248"/>
                </a:cubicBezTo>
                <a:cubicBezTo>
                  <a:pt x="4302" y="19248"/>
                  <a:pt x="4026" y="19209"/>
                  <a:pt x="4002" y="192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Box 1"/>
          <p:cNvSpPr/>
          <p:nvPr/>
        </p:nvSpPr>
        <p:spPr>
          <a:xfrm>
            <a:off x="1066680" y="914400"/>
            <a:ext cx="4267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. 291#6-36x3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8T01:46:33Z</dcterms:created>
  <dc:creator>Allen Fuller</dc:creator>
  <dc:description/>
  <dc:language>en-US</dc:language>
  <cp:lastModifiedBy>sraja</cp:lastModifiedBy>
  <dcterms:modified xsi:type="dcterms:W3CDTF">2011-02-15T18:57:24Z</dcterms:modified>
  <cp:revision>11</cp:revision>
  <dc:subject/>
  <dc:title>Section 5.3</dc:title>
</cp:coreProperties>
</file>